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hamm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rwright.wikispac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6308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6591240"/>
            <a:ext cx="399564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curringopinions.com/archis/slavery.jpg" TargetMode="External"/><Relationship Id="rId2" Type="http://schemas.openxmlformats.org/officeDocument/2006/relationships/hyperlink" Target="http://www.schoolhistory.co.uk/" TargetMode="Externa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slaves just accept slaver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inquiry into the different types of slave resista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d"/>
    <p:sndAc>
      <p:stSnd>
        <p:snd r:embed="rId1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ave resistance, what would you do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the quiz and work out your own score, what does it say about yo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the title above, write down your score and explain whether you think your score is a true representation of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d"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y to Day slave resis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tasks 1-4 from the she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whole group is fi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make a ‘freeze frame’ of one form of resista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d"/>
    <p:sndAc>
      <p:stSnd>
        <p:snd r:embed="rId1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ework – AOI,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ommunity &amp; servic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how can I contribute to the community, how can I help oth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search an example of passive or active resistance in modern history (last 100 years approx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must be prepared to tell the class if asked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it happ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wa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it happ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it effective – did it bring about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d"/>
    <p:sndAc>
      <p:stSnd>
        <p:snd r:embed="rId1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http://www.concurringopinions.com/archis/slavery.jp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et by Mrs Surawy,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www.schoolhistory.co.u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d"/>
    <p:sndAc>
      <p:stSnd>
        <p:snd r:embed="rId3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5:24:34Z</dcterms:created>
  <dc:creator>cwright</dc:creator>
  <dc:description/>
  <dc:language>en-US</dc:language>
  <cp:lastModifiedBy>Christopher Wright</cp:lastModifiedBy>
  <dcterms:modified xsi:type="dcterms:W3CDTF">2007-03-14T18:40:36Z</dcterms:modified>
  <cp:revision>7</cp:revision>
  <dc:subject/>
  <dc:title>Did slaves just accept slavery?</dc:title>
</cp:coreProperties>
</file>