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voltage.wav" ContentType="audio/x-wav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dieval medic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  <p:sndAc>
      <p:stSnd>
        <p:snd r:embed="rId2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 exerci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 to Think History timeline exercise, o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are at home take a look at Page 75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your text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  <p:sndAc>
      <p:stSnd>
        <p:snd r:embed="rId2" name="voltag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399960"/>
            <a:ext cx="9144000" cy="645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487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308640"/>
            <a:ext cx="741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to D.Belshaw for the 5W’s diagra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st question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  <p:sndAc>
      <p:stSnd>
        <p:snd r:embed="rId2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2:03:37Z</dcterms:created>
  <dc:creator>cwright</dc:creator>
  <dc:description/>
  <dc:language>en-US</dc:language>
  <cp:lastModifiedBy>cwright</cp:lastModifiedBy>
  <dcterms:modified xsi:type="dcterms:W3CDTF">2007-02-27T15:09:43Z</dcterms:modified>
  <cp:revision>9</cp:revision>
  <dc:subject/>
  <dc:title>How did slavery turn people into possessions?</dc:title>
</cp:coreProperties>
</file>