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7.jpeg" ContentType="image/jpeg"/>
  <Override PartName="/ppt/media/image6.jpeg" ContentType="image/jpeg"/>
  <Override PartName="/ppt/media/applause.wav" ContentType="audio/x-wav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gavel.wav" ContentType="audio/x-wav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91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82296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975200"/>
            <a:ext cx="82296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91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40158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3716280"/>
            <a:ext cx="40158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975200"/>
            <a:ext cx="40158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975200"/>
            <a:ext cx="40158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91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26496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3716280"/>
            <a:ext cx="26496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3716280"/>
            <a:ext cx="26496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975200"/>
            <a:ext cx="26496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975200"/>
            <a:ext cx="26496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975200"/>
            <a:ext cx="26496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91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371628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91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91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401580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3716280"/>
            <a:ext cx="401580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91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799128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91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40158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3716280"/>
            <a:ext cx="401580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975200"/>
            <a:ext cx="40158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91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401580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3716280"/>
            <a:ext cx="40158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975200"/>
            <a:ext cx="40158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91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40158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3716280"/>
            <a:ext cx="40158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975200"/>
            <a:ext cx="82296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mrwright.wikispaces.com/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91280" cy="836640"/>
          </a:xfrm>
          <a:prstGeom prst="rect">
            <a:avLst/>
          </a:prstGeom>
          <a:solidFill>
            <a:srgbClr val="bbe0e3">
              <a:alpha val="6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716280"/>
            <a:ext cx="8229600" cy="2409840"/>
          </a:xfrm>
          <a:prstGeom prst="rect">
            <a:avLst/>
          </a:prstGeom>
          <a:solidFill>
            <a:srgbClr val="bbe0e3">
              <a:alpha val="67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472040" indent="-2102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92520" indent="-21024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92520" indent="-21024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92520" indent="-21024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00360" y="6591240"/>
            <a:ext cx="399564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avel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audio" Target="../media/gavel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audio" Target="../media/gavel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audio" Target="../media/gavel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audio" Target="../media/gavel.wav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audio" Target="../media/gavel.wav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audio" Target="../media/gavel.wav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audio" Target="../media/gavel.wav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image" Target="../media/image31.jpeg"/><Relationship Id="rId12" Type="http://schemas.openxmlformats.org/officeDocument/2006/relationships/audio" Target="../media/gavel.wav"/><Relationship Id="rId1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avel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avel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avel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avel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avel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otelbank.ch/zulieferanten/hygiene.jpg" TargetMode="External"/><Relationship Id="rId3" Type="http://schemas.openxmlformats.org/officeDocument/2006/relationships/hyperlink" Target="http://www1.istockphoto.com/file_thumbview_approve/116576/2/istockphoto_116576_cartoon_judge.jpg" TargetMode="External"/><Relationship Id="rId4" Type="http://schemas.openxmlformats.org/officeDocument/2006/relationships/hyperlink" Target="http://razorland55.free.fr/friend01/Question_Mark2.jpg" TargetMode="External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audio" Target="../media/gavel.wav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avel.wav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audio" Target="../media/gavel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audio" Target="../media/gavel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audio" Target="../media/gavel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gavel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gavel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bbe0e3">
              <a:alpha val="6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healthy and hygienic were towns in the middle age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bbe0e3">
              <a:alpha val="67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ing at the fictional medieval town of Cessvil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 thruBlk="true"/>
    <p:sndAc>
      <p:stSnd>
        <p:snd r:embed="rId2" name="gave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91280" cy="1125360"/>
          </a:xfrm>
          <a:prstGeom prst="rect">
            <a:avLst/>
          </a:prstGeom>
          <a:solidFill>
            <a:srgbClr val="bbe0e3">
              <a:alpha val="6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r. Bullstro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4149720"/>
            <a:ext cx="8351640" cy="2448000"/>
          </a:xfrm>
          <a:prstGeom prst="rect">
            <a:avLst/>
          </a:prstGeom>
          <a:solidFill>
            <a:srgbClr val="bbe0e3">
              <a:alpha val="67000"/>
            </a:srgbClr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w old do you think your character i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is your job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kind of personality do you think your character would hav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w does your character contribute to the hygiene problems in Cessvil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other aspects of your characters life could you ‘invent’ to make your character more believable (e.g. family life, home et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-181080" y="907920"/>
            <a:ext cx="914400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V="1">
            <a:off x="8459640" y="342864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740720" y="4005360"/>
            <a:ext cx="1403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ssp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3" name="gavel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91280" cy="1125360"/>
          </a:xfrm>
          <a:prstGeom prst="rect">
            <a:avLst/>
          </a:prstGeom>
          <a:solidFill>
            <a:srgbClr val="bbe0e3">
              <a:alpha val="6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rs. Atki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000" y="4149720"/>
            <a:ext cx="8351640" cy="2448000"/>
          </a:xfrm>
          <a:prstGeom prst="rect">
            <a:avLst/>
          </a:prstGeom>
          <a:solidFill>
            <a:srgbClr val="bbe0e3">
              <a:alpha val="67000"/>
            </a:srgbClr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w old do you think your character i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is your job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kind of personality do you think your character would hav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w does your character contribute to the hygiene problems in Cessvil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other aspects of your characters life could you ‘invent’ to make your character more believable (e.g. family life, home et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-252360" y="981000"/>
            <a:ext cx="9144000" cy="2879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3" name="gavel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91280" cy="1125360"/>
          </a:xfrm>
          <a:prstGeom prst="rect">
            <a:avLst/>
          </a:prstGeom>
          <a:solidFill>
            <a:srgbClr val="bbe0e3">
              <a:alpha val="6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rs. Walt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000" y="4149720"/>
            <a:ext cx="8351640" cy="2448000"/>
          </a:xfrm>
          <a:prstGeom prst="rect">
            <a:avLst/>
          </a:prstGeom>
          <a:solidFill>
            <a:srgbClr val="bbe0e3">
              <a:alpha val="67000"/>
            </a:srgbClr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w old do you think your character i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is your job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kind of personality do you think your character would hav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w does your character contribute to the hygiene problems in Cessvil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other aspects of your characters life could you ‘invent’ to make your character more believable (e.g. family life, home et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-252360" y="1125360"/>
            <a:ext cx="9144000" cy="2500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3" name="gavel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91280" cy="1125360"/>
          </a:xfrm>
          <a:prstGeom prst="rect">
            <a:avLst/>
          </a:prstGeom>
          <a:solidFill>
            <a:srgbClr val="bbe0e3">
              <a:alpha val="6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uncillor Cliffo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000" y="4149720"/>
            <a:ext cx="8351640" cy="2448000"/>
          </a:xfrm>
          <a:prstGeom prst="rect">
            <a:avLst/>
          </a:prstGeom>
          <a:solidFill>
            <a:srgbClr val="bbe0e3">
              <a:alpha val="67000"/>
            </a:srgbClr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w old do you think your character i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is your job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kind of personality do you think your character would hav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w does your character contribute to the hygiene problems in Cessvil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other aspects of your characters life could you ‘invent’ to make your character more believable (e.g. family life, home et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181080" y="907920"/>
            <a:ext cx="914400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3" name="gavel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91280" cy="836640"/>
          </a:xfrm>
          <a:prstGeom prst="rect">
            <a:avLst/>
          </a:prstGeom>
          <a:solidFill>
            <a:srgbClr val="bbe0e3">
              <a:alpha val="6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Ju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00720" y="1052280"/>
            <a:ext cx="4186080" cy="5073480"/>
          </a:xfrm>
          <a:prstGeom prst="rect">
            <a:avLst/>
          </a:prstGeom>
          <a:solidFill>
            <a:srgbClr val="bbe0e3">
              <a:alpha val="67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s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a Jury fo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makes a good jur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 How will you record the answers and information you hear at the trial efficiently? Produce a sheet to help you do this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4032360" cy="3078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3" name="gavel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91280" cy="836640"/>
          </a:xfrm>
          <a:prstGeom prst="rect">
            <a:avLst/>
          </a:prstGeom>
          <a:solidFill>
            <a:srgbClr val="bbe0e3">
              <a:alpha val="6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Jud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427280" y="981000"/>
            <a:ext cx="4259160" cy="5145120"/>
          </a:xfrm>
          <a:prstGeom prst="rect">
            <a:avLst/>
          </a:prstGeom>
          <a:solidFill>
            <a:srgbClr val="bbe0e3">
              <a:alpha val="67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Look at Pages 94-97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You must write a 1-2 minute opening statement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This opening statement must be neutral, you can’t show bias against or in favour of any of the characters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It should include information for the Jury, including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When is this happening, What is the problem on trial, who are the main defendants, What must the jury do?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3887640" cy="3213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3" name="gavel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91280" cy="836640"/>
          </a:xfrm>
          <a:prstGeom prst="rect">
            <a:avLst/>
          </a:prstGeom>
          <a:solidFill>
            <a:srgbClr val="bbe0e3">
              <a:alpha val="6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arrist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11280" y="907560"/>
            <a:ext cx="4176720" cy="5218200"/>
          </a:xfrm>
          <a:prstGeom prst="rect">
            <a:avLst/>
          </a:prstGeom>
          <a:solidFill>
            <a:srgbClr val="bbe0e3">
              <a:alpha val="67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makes a good prosecution question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questions will you ask the characters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is your groups strategy: who will ask what questions, how will you record information to use as you go along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2216160" cy="2952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620040" y="907920"/>
            <a:ext cx="2523960" cy="2881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4" name="gavel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991280" cy="836640"/>
          </a:xfrm>
          <a:prstGeom prst="rect">
            <a:avLst/>
          </a:prstGeom>
          <a:solidFill>
            <a:srgbClr val="bbe0e3">
              <a:alpha val="6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 who is guilty of making Cessville a messy and unhygienic place to liv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94200" cy="3357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059280" y="0"/>
            <a:ext cx="2554200" cy="3213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2484360" y="3213000"/>
            <a:ext cx="2430720" cy="3645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0" y="3213000"/>
            <a:ext cx="2776680" cy="3645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4932360" y="3213000"/>
            <a:ext cx="2395440" cy="3645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7086600" y="2133720"/>
            <a:ext cx="2057400" cy="3311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5651640" y="0"/>
            <a:ext cx="2279520" cy="3284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7031160" y="3762360"/>
            <a:ext cx="2112840" cy="3095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7715160" y="0"/>
            <a:ext cx="1428840" cy="2171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12" name="gavel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7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70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77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770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xit" presetID="19" presetSubtype="10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5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991280" cy="836640"/>
          </a:xfrm>
          <a:prstGeom prst="rect">
            <a:avLst/>
          </a:prstGeom>
          <a:solidFill>
            <a:srgbClr val="bbe0e3">
              <a:alpha val="6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ri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solidFill>
            <a:srgbClr val="bbe0e3">
              <a:alpha val="67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member you can find a link to watch the whole trial again on the blo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will need the special password that you are given in class to access the vide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 thruBlk="true"/>
    <p:sndAc>
      <p:stSnd>
        <p:snd r:embed="rId2" name="gavel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91280" cy="836640"/>
          </a:xfrm>
          <a:prstGeom prst="rect">
            <a:avLst/>
          </a:prstGeom>
          <a:solidFill>
            <a:srgbClr val="bbe0e3">
              <a:alpha val="6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ritten tas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145120"/>
          </a:xfrm>
          <a:prstGeom prst="rect">
            <a:avLst/>
          </a:prstGeom>
          <a:solidFill>
            <a:srgbClr val="bbe0e3">
              <a:alpha val="67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pare your report on who was guilty and not guil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must include evidence to support your conclusions for each character: you will be assessed on the quality of your supporting evidence (criteria C: Skill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r report should contai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211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probl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211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names of the characters involv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211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ich characters are guilty and your evidence to show th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211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ich characters are innocent and your evidence to support th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21160" indent="-37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 you think any one person is MOST responsible for the problems in Cessvil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 You also need to answer the questio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are the hygiene in Cessville and Milan today. What are th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fferences &amp; similarities. Why do you think these differenc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ist?” For this part you will be assessed on your ability to compare a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ast history with the modern day (criteria B: Concept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 thruBlk="true"/>
    <p:sndAc>
      <p:stSnd>
        <p:snd r:embed="rId2" name="gave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064360" cy="1341360"/>
          </a:xfrm>
          <a:prstGeom prst="rect">
            <a:avLst/>
          </a:prstGeom>
          <a:solidFill>
            <a:srgbClr val="bbe0e3">
              <a:alpha val="6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essville is a mess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63640" y="2205000"/>
            <a:ext cx="5781600" cy="287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ho is to blame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11280" y="1628640"/>
            <a:ext cx="2379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8360" y="5229360"/>
            <a:ext cx="2379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5280" y="5157720"/>
            <a:ext cx="2379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8360" y="1773360"/>
            <a:ext cx="2379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fade thruBlk="true"/>
    <p:sndAc>
      <p:stSnd>
        <p:snd r:embed="rId2" name="gavel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91280" cy="836640"/>
          </a:xfrm>
          <a:prstGeom prst="rect">
            <a:avLst/>
          </a:prstGeom>
          <a:solidFill>
            <a:srgbClr val="bbe0e3">
              <a:alpha val="6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brics – Criteria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4920" y="836640"/>
          <a:ext cx="9109080" cy="5616720"/>
        </p:xfrm>
        <a:graphic>
          <a:graphicData uri="http://schemas.openxmlformats.org/drawingml/2006/table">
            <a:tbl>
              <a:tblPr/>
              <a:tblGrid>
                <a:gridCol w="1224000"/>
                <a:gridCol w="1225440"/>
                <a:gridCol w="1416240"/>
                <a:gridCol w="1747800"/>
                <a:gridCol w="1747800"/>
                <a:gridCol w="174780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riteria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9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0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ncepts Time and Place, how and why are things similar and/or different across history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Work incomplete and/or evidence of plagiaris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pplication of concepts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ometimes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ccurate and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ccasiona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attempts are made to describe connections to the subject matt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pplication of concepts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sually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ccurate and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artially successfu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attempts are made to describe connections to the subject matt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pplication of concepts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ostly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ccurate and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uccessfu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attempts are made to describe connections to the subject matt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pplication of concepts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s accurate and sophisticated. Successfu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attempts are made to describe connections to the subject matter and apply concepts to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ther situation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slow">
    <p:fade thruBlk="true"/>
    <p:sndAc>
      <p:stSnd>
        <p:snd r:embed="rId2" name="gavel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91280" cy="836640"/>
          </a:xfrm>
          <a:prstGeom prst="rect">
            <a:avLst/>
          </a:prstGeom>
          <a:solidFill>
            <a:srgbClr val="bbe0e3">
              <a:alpha val="6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brics Criteria 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1628640"/>
          <a:ext cx="9143640" cy="2855880"/>
        </p:xfrm>
        <a:graphic>
          <a:graphicData uri="http://schemas.openxmlformats.org/drawingml/2006/table">
            <a:tbl>
              <a:tblPr/>
              <a:tblGrid>
                <a:gridCol w="1243080"/>
                <a:gridCol w="1096560"/>
                <a:gridCol w="1463040"/>
                <a:gridCol w="1828800"/>
                <a:gridCol w="1828440"/>
                <a:gridCol w="1683720"/>
              </a:tblGrid>
              <a:tr h="286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kill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elec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f evidenc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o suppor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yo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rgumen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n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ach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 logic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nclus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Work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comple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nd/o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videnc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lagiaris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om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relev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formation 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elected an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sed.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nalytic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kills are used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rgumen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nd judgmen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ccasional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upported b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asi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viden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lev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formatio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elected and used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om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analytic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kills are used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with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arti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ucces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rguments an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judgment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upported by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vidence, but th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ometim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uperfici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 range o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lev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formatio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elected and used.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ritical analysis 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sed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uccessfully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rguments an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judgment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upported by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vidence an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alanc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 wide range o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leva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formation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elected an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sed.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ritic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nalysis is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ophisticat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nd successful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rguments an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judgment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ully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upport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y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vidence an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alanc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0" y="1052640"/>
          <a:ext cx="9109080" cy="546120"/>
        </p:xfrm>
        <a:graphic>
          <a:graphicData uri="http://schemas.openxmlformats.org/drawingml/2006/table">
            <a:tbl>
              <a:tblPr/>
              <a:tblGrid>
                <a:gridCol w="1224000"/>
                <a:gridCol w="1116000"/>
                <a:gridCol w="1440000"/>
                <a:gridCol w="1833480"/>
                <a:gridCol w="1838160"/>
                <a:gridCol w="165744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riteria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9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slow">
    <p:fade thruBlk="true"/>
    <p:sndAc>
      <p:stSnd>
        <p:snd r:embed="rId2" name="gavel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91280" cy="836640"/>
          </a:xfrm>
          <a:prstGeom prst="rect">
            <a:avLst/>
          </a:prstGeom>
          <a:solidFill>
            <a:srgbClr val="bbe0e3">
              <a:alpha val="6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solidFill>
            <a:srgbClr val="bbe0e3">
              <a:alpha val="67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ttp://www.hotelbank.ch/zulieferanten/hygiene.jp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nk History pages 93-97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http://www1.istockphoto.com/file_thumbview_approve/116576/2/istockphoto_116576_cartoon_judge.jp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http://razorland55.free.fr/friend01/Question_Mark2.jp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 thruBlk="true"/>
    <p:sndAc>
      <p:stSnd>
        <p:snd r:embed="rId5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73560" cy="4005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473800" y="0"/>
            <a:ext cx="3670200" cy="3716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384720" y="2492280"/>
            <a:ext cx="3419280" cy="4365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0" y="3983040"/>
            <a:ext cx="3780000" cy="2874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6810480" y="3284640"/>
            <a:ext cx="2333520" cy="3573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3276720" y="0"/>
            <a:ext cx="2195280" cy="3068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8" name="gave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991280" cy="836640"/>
          </a:xfrm>
          <a:prstGeom prst="rect">
            <a:avLst/>
          </a:prstGeom>
          <a:solidFill>
            <a:srgbClr val="bbe0e3">
              <a:alpha val="6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oles in the great trial of Cessvill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solidFill>
            <a:srgbClr val="bbe0e3">
              <a:alpha val="67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ust WHO is t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lame for th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tuation i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essvill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5000760"/>
          </a:xfrm>
          <a:prstGeom prst="rect">
            <a:avLst/>
          </a:prstGeom>
          <a:solidFill>
            <a:srgbClr val="bbe0e3">
              <a:alpha val="67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i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r. Brow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r. Bullstrod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rs. Atkin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rs. Walter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ncillor Cliffor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r. Bate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chard Cobb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omas Scot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las Smyth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 thruBlk="true"/>
    <p:sndAc>
      <p:stSnd>
        <p:snd r:embed="rId2" name="gavel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91280" cy="1125360"/>
          </a:xfrm>
          <a:prstGeom prst="rect">
            <a:avLst/>
          </a:prstGeom>
          <a:solidFill>
            <a:srgbClr val="bbe0e3">
              <a:alpha val="6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r. Ba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27622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4149720"/>
            <a:ext cx="8351640" cy="2448000"/>
          </a:xfrm>
          <a:prstGeom prst="rect">
            <a:avLst/>
          </a:prstGeom>
          <a:solidFill>
            <a:srgbClr val="bbe0e3">
              <a:alpha val="67000"/>
            </a:srgbClr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w old do you think your character i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is your job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kind of personality do you think your character would hav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w does your character contribute to the hygiene problems in Cessvil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other aspects of your characters life could you ‘invent’ to make your character more believable (e.g. family life, home et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 thruBlk="true"/>
    <p:sndAc>
      <p:stSnd>
        <p:snd r:embed="rId3" name="gavel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91280" cy="1125360"/>
          </a:xfrm>
          <a:prstGeom prst="rect">
            <a:avLst/>
          </a:prstGeom>
          <a:solidFill>
            <a:srgbClr val="bbe0e3">
              <a:alpha val="6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chard Cob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4149720"/>
            <a:ext cx="8351640" cy="2448000"/>
          </a:xfrm>
          <a:prstGeom prst="rect">
            <a:avLst/>
          </a:prstGeom>
          <a:solidFill>
            <a:srgbClr val="bbe0e3">
              <a:alpha val="67000"/>
            </a:srgbClr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w old do you think your character i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is your job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kind of personality do you think your character would hav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w does your character contribute to the hygiene problems in Cessvil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other aspects of your characters life could you ‘invent’ to make your character more believable (e.g. family life, home et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3" name="gavel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91280" cy="1125360"/>
          </a:xfrm>
          <a:prstGeom prst="rect">
            <a:avLst/>
          </a:prstGeom>
          <a:solidFill>
            <a:srgbClr val="bbe0e3">
              <a:alpha val="6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omas Scot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4149720"/>
            <a:ext cx="8351640" cy="2448000"/>
          </a:xfrm>
          <a:prstGeom prst="rect">
            <a:avLst/>
          </a:prstGeom>
          <a:solidFill>
            <a:srgbClr val="bbe0e3">
              <a:alpha val="67000"/>
            </a:srgbClr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w old do you think your character i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is your job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kind of personality do you think your character would hav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w does your character contribute to the hygiene problems in Cessvil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other aspects of your characters life could you ‘invent’ to make your character more believable (e.g. family life, home et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9325080" cy="3025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3" name="gavel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91280" cy="1125360"/>
          </a:xfrm>
          <a:prstGeom prst="rect">
            <a:avLst/>
          </a:prstGeom>
          <a:solidFill>
            <a:srgbClr val="bbe0e3">
              <a:alpha val="6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las Smyt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000" y="4149720"/>
            <a:ext cx="8351640" cy="2448000"/>
          </a:xfrm>
          <a:prstGeom prst="rect">
            <a:avLst/>
          </a:prstGeom>
          <a:solidFill>
            <a:srgbClr val="bbe0e3">
              <a:alpha val="67000"/>
            </a:srgbClr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w old do you think your character i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is your job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kind of personality do you think your character would hav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w does your character contribute to the hygiene problems in Cessvil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other aspects of your characters life could you ‘invent’ to make your character more believable (e.g. family life, home et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939636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3" name="gavel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91280" cy="1125360"/>
          </a:xfrm>
          <a:prstGeom prst="rect">
            <a:avLst/>
          </a:prstGeom>
          <a:solidFill>
            <a:srgbClr val="bbe0e3">
              <a:alpha val="6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r. Br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000" y="4149720"/>
            <a:ext cx="8351640" cy="2448000"/>
          </a:xfrm>
          <a:prstGeom prst="rect">
            <a:avLst/>
          </a:prstGeom>
          <a:solidFill>
            <a:srgbClr val="bbe0e3">
              <a:alpha val="67000"/>
            </a:srgbClr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w old do you think your character i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is your job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kind of personality do you think your character would hav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w does your character contribute to the hygiene problems in Cessvil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other aspects of your characters life could you ‘invent’ to make your character more believable (e.g. family life, home et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-181080" y="1052640"/>
            <a:ext cx="9144000" cy="2736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3" name="gavel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2T07:44:47Z</dcterms:created>
  <dc:creator>cwright</dc:creator>
  <dc:description/>
  <dc:language>en-US</dc:language>
  <cp:lastModifiedBy>cwright</cp:lastModifiedBy>
  <dcterms:modified xsi:type="dcterms:W3CDTF">2007-04-16T09:43:04Z</dcterms:modified>
  <cp:revision>48</cp:revision>
  <dc:subject/>
  <dc:title>Slide 1</dc:title>
</cp:coreProperties>
</file>