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scream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cream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cream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cream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cream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cream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cream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ypplanning.wikispaces.com/space/showimage/medievalhospitalskeywords.swf" TargetMode="External"/><Relationship Id="rId3" Type="http://schemas.openxmlformats.org/officeDocument/2006/relationships/audio" Target="../media/scream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cadyholistic.ca/blog/crazydoctor.jpg" TargetMode="External"/><Relationship Id="rId3" Type="http://schemas.openxmlformats.org/officeDocument/2006/relationships/hyperlink" Target="http://www.arcadyholistic.ca/blog/crazydoctor.jpg" TargetMode="External"/><Relationship Id="rId4" Type="http://schemas.openxmlformats.org/officeDocument/2006/relationships/audio" Target="../media/scream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918560" cy="20905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were Medieval Hospitals like and how were the sick treated in them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476360" y="4581000"/>
            <a:ext cx="6400800" cy="17528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Mr. C Wr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  <p:sndAc>
      <p:stSnd>
        <p:snd r:embed="rId2" name="scream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begin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your groups discus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you ever been in a hospital? Wha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 it like?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down all the words and phrases that your group can think of that describe what it might be like inside a modern a hospital. Try to arrange your ideas under relevant headings. You could draw lines to connect idea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  <p:sndAc>
      <p:stSnd>
        <p:snd r:embed="rId2" name="scream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read pages 77-79, make sure you stop and discuss any words or bits you don’t understand. (10-15min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as a group do the “5w’s” on Source C. (10 min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you need to draw your own mind map (this time 1 each, not as a group) on the information you have looked at: see Q1 on page 80 to guide you. (20 min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you finish all of this then you are very clever!! Make sure all members of the table have finished and then see me for the next thing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  <p:sndAc>
      <p:stSnd>
        <p:snd r:embed="rId2" name="scream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nd 30 minutes reading for ‘Read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gether’ – needs to be done in time fo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nd of Reading Together week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  <p:sndAc>
      <p:stSnd>
        <p:snd r:embed="rId2" name="scream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xt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a look at question 2a &amp; 2b on page 8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  <p:sndAc>
      <p:stSnd>
        <p:snd r:embed="rId2" name="scream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one piece of advice would you give 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rber surgeon to improve his surviva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t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  <p:sndAc>
      <p:stSnd>
        <p:snd r:embed="rId2" name="scream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al quiz: do you know your vocab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mypplanning.wikispaces.com/space/showimage/medievalhospitalskeywords.swf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  <p:sndAc>
      <p:stSnd>
        <p:snd r:embed="rId3" name="scream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www.arcadyholistic.ca/blog/craz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doctor.jp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  <p:sndAc>
      <p:stSnd>
        <p:snd r:embed="rId4" name="scream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7:14:25Z</dcterms:created>
  <dc:creator>cwright</dc:creator>
  <dc:description/>
  <dc:language>en-US</dc:language>
  <cp:lastModifiedBy>cwright</cp:lastModifiedBy>
  <dcterms:modified xsi:type="dcterms:W3CDTF">2007-03-05T09:37:44Z</dcterms:modified>
  <cp:revision>5</cp:revision>
  <dc:subject/>
  <dc:title>What were Medieval Hospitals like and how were the sick treated in them?</dc:title>
</cp:coreProperties>
</file>