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whoosh.wav" ContentType="audio/x-wav"/>
  <Override PartName="/ppt/media/image2.png" ContentType="image/png"/>
  <Override PartName="/ppt/media/type.wav" ContentType="audio/x-wav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EBCE-7661-48D6-8EBB-00599EA1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D63-166C-453C-9BBB-31880B9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788-770F-4A09-8322-D8C80F4B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599-69E6-4A23-82F8-726D3404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629-0ED2-4A5A-8089-E707CBE6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1F6-D9DC-42FD-9E86-C5FEF202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38E-3FC4-49C9-8C0F-8DF1489A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9A7-1992-45C0-AC04-F5792874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EA9-5CE5-4159-9C8B-F8E1BA9C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8BB-8DBB-46C5-927C-0535D6E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18C-526D-49DC-90E0-92B56921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ABA-508E-4212-B6E3-C0E6D43E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3884-D657-477B-B584-400A8DEA54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rstworldwar.com/" TargetMode="External"/><Relationship Id="rId3" Type="http://schemas.openxmlformats.org/officeDocument/2006/relationships/hyperlink" Target="http://europeanhistory.about.com/library/weekly/blww1countriesint.htm" TargetMode="External"/><Relationship Id="rId4" Type="http://schemas.openxmlformats.org/officeDocument/2006/relationships/hyperlink" Target="http://www.answers.com/topic/african-theatre-of-world-war-i" TargetMode="External"/><Relationship Id="rId5" Type="http://schemas.openxmlformats.org/officeDocument/2006/relationships/hyperlink" Target="http://www.iwmcollections.org.uk/" TargetMode="External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W1 – A global wa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95640" y="333360"/>
            <a:ext cx="3117960" cy="59752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isoners in a cage of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Turkish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wire at Sedd El Bahr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651640" cy="4052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08000" y="260280"/>
            <a:ext cx="5256360" cy="612144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ictoria Cross Awards, 31 July 1917: Leslie William Andrew, Corporal, 2nd Battalion, Wellington Infantry Regiment, New Zealand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70512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one - Criter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5 m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group produce a grading scheme to determine the success/failure of the class video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ill then present your groups proposed grading scheme to the class and we will vote – the winning one will be the one we use to assess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two – Discover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in mixed groups of 3/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one of the following nations involvement in WW1: Canada, Australia, New Zealand, India, South Africa or Turkey. (we need the class to cover all of them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You are looking for details such as: where is it, why was it involved, how many troops, which battles etc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three: 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group needs to present the information found in an entertaining and memorable way through a vide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about 2 – 4 minutes lo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four: Recor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group needs to record your present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 2 – 4 minutes in length and keep in mind the criteria we agreed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five: Watch &amp; Ass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group will be assessed by the class according to the criteria agreed by the class in part 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a – In class lesson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over - Ho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– In class lesson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– In class lesson 2/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tch &amp; Assess. – In class lesson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firstworldwar.com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http://europeanhistory.about.com/library/weekly/blww1countriesint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http://www.answers.com/topic/african-theatre-of-world-war-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http://www.iwmcollections.org.u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6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ban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ab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stral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stria-Hung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lgium and colon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azi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lgar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in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sta Ric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b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zechoslovak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on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l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rance and Empi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, part 2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Britain and Emp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rmany and Empi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e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uatema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it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ndu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aly and colon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p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tv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ber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huan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untries who were involved in WW1, part 3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uxembour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enegr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caragu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na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ilippi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tugal and colon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oman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uss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an Marino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rbi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iam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urke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anscaucasi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ites States of Americ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918560" cy="209052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as you can see, it definitely deserved the name ‘World War’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did they f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stern front, Eastern front, Italian Front, West Africa, South-West Africa, Middle East, East Africa, Pacific Ocean islands, China, Balkans…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  <p:sndAc>
      <p:stSnd>
        <p:snd r:embed="rId2" name="whoosh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360" y="274320"/>
            <a:ext cx="3384360" cy="59626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member of the 3/3rd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Gurkh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Rifles asleep while off duty in the l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5364000" cy="4091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492360" cy="56754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portrait of a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Gurkh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holding a kukri, somewhere on the Western Front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558000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3276720" cy="624996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eutenant General Sir Pratap Singh with his son and the Rajah of Ratlam, at Sir Douglas Haig's Chateau at Montreuil, France.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5580000" cy="3970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4:59:32Z</dcterms:created>
  <dc:creator>Christopher Wright</dc:creator>
  <dc:description/>
  <dc:language>en-US</dc:language>
  <cp:lastModifiedBy>Christopher Wright</cp:lastModifiedBy>
  <dcterms:modified xsi:type="dcterms:W3CDTF">2007-03-03T16:38:16Z</dcterms:modified>
  <cp:revision>12</cp:revision>
  <dc:subject/>
  <dc:title>WW1 – A global war?</dc:title>
</cp:coreProperties>
</file>