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whoosh.wav" ContentType="audio/x-wav"/>
  <Override PartName="/ppt/media/image2.png" ContentType="image/png"/>
  <Override PartName="/ppt/media/type.wav" ContentType="audio/x-wav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6E5-2CE0-4D3A-9CC0-7688A417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0CA-6349-468D-810A-2E412C03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307-DDD1-49A1-98A1-2E6BEBFC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BF5-935D-4CDE-8453-EF380B57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A58-3C73-4649-980F-AD7F5EED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647-B4D2-4CB8-ADA5-F1268BB7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71C-9287-4D06-BE9B-2F17E86D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EEB-BDAA-4E96-8184-23082762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7DA-31E8-4325-8E49-2B2C0ECA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228-5120-46FD-8793-6DFBC3CD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AA7-7E2D-4CB5-AED8-961C73BE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969-4C05-4A8C-A710-CB7912FA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7995-95AE-4354-A50B-EAF181B9C8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rstworldwar.com/" TargetMode="External"/><Relationship Id="rId3" Type="http://schemas.openxmlformats.org/officeDocument/2006/relationships/hyperlink" Target="http://europeanhistory.about.com/library/weekly/blww1countriesint.htm" TargetMode="External"/><Relationship Id="rId4" Type="http://schemas.openxmlformats.org/officeDocument/2006/relationships/hyperlink" Target="http://www.answers.com/topic/african-theatre-of-world-war-i" TargetMode="External"/><Relationship Id="rId5" Type="http://schemas.openxmlformats.org/officeDocument/2006/relationships/hyperlink" Target="http://www.iwmcollections.org.uk/" TargetMode="External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W1 – A global wa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95640" y="333360"/>
            <a:ext cx="3117960" cy="59752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soners in a cage of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Turkish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wire at Sedd El Bahr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65164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08000" y="260280"/>
            <a:ext cx="5256360" cy="61214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ctoria Cross Awards, 31 July 1917: Leslie William Andrew, Corporal, 2nd Battalion, Wellington Infantry Regiment, New Zealand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70512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one - Criter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5 mi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group produce a grading scheme to determine the success/failure of the class video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ill then present your groups proposed grading scheme to the class and we will vote – the winning one will be the one we use to assess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two – Discover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in mixed groups of 3/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one of the following nations involvement in WW1: Canada, Australia, New Zealand, India, South Africa or Turkey. (we need the class to cover all of the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You are looking for details such as: where is it, why was it involved, how many troops, which battles etc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three: 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group needs to present the information found in an entertaining and memorable way through a vide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about 2 – 4 minutes lo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four: Recor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group needs to record your present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 2 – 4 minutes in length and keep in mind the criteria we agreed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five: Watch &amp; Ass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group will be assessed by the class according to the criteria agreed by the class in part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a – In class lesson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over - Ho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– In class less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 – In class lesson 2/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ch &amp; Assess. – In class lesson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firstworldwar.com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europeanhistory.about.com/library/weekly/blww1countriesint.ht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www.answers.com/topic/african-theatre-of-world-war-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http://www.iwmcollections.org.u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6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ban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ab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stria-Hung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lgium and colon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azi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lgar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in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sta Ric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b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zechoslovak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on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l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nce and Empi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, part 2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Britain and Emp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any and Emp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atema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it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ndur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aly and colon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p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tv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ber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huan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, part 3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uxembour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enegr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caragu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na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s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ilipp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tugal and colon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uss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an Marino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bi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am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urke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anscaucas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tes States of Americ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20905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as you can see, it definitely deserved the name ‘World War’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id they f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stern front, Eastern front, Italian Front, West Africa, South-West Africa, Middle East, East Africa, Pacific Ocean islands, China, Balkans….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360" y="274320"/>
            <a:ext cx="3384360" cy="59626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member of the 3/3rd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Gurkh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Rifles asleep while off duty in the li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5364000" cy="4091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492360" cy="56754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portrait of a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Gurkh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olding a kukri, somewhere on the Western Fron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558000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3276720" cy="62499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eutenant General Sir Pratap Singh with his son and the Rajah of Ratlam, at Sir Douglas Haig's Chateau at Montreuil, France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5580000" cy="3970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4:59:32Z</dcterms:created>
  <dc:creator>Christopher Wright</dc:creator>
  <dc:description/>
  <dc:language>en-US</dc:language>
  <cp:lastModifiedBy>Christopher Wright</cp:lastModifiedBy>
  <dcterms:modified xsi:type="dcterms:W3CDTF">2007-03-03T16:38:16Z</dcterms:modified>
  <cp:revision>12</cp:revision>
  <dc:subject/>
  <dc:title>WW1 – A global war?</dc:title>
</cp:coreProperties>
</file>