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explode.wav" ContentType="audio/x-wav"/>
  <Override PartName="/ppt/media/camera.wav" ContentType="audio/x-wav"/>
  <Override PartName="/ppt/media/image6.png" ContentType="image/png"/>
  <Override PartName="/ppt/media/whoosh.wav" ContentType="audio/x-wav"/>
  <Override PartName="/ppt/media/image2.png" ContentType="image/png"/>
  <Override PartName="/ppt/media/type.wav" ContentType="audio/x-wav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5709-9919-44F2-98BD-210DEBE1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8E8F-6985-4D2C-9896-604EAA1A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093A-7796-4229-A1EE-3077D54F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9A88-28D3-4937-AA11-E320B05D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847D-5741-4B58-8942-1200BCAE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D40-0133-4B99-BFE1-3CB60195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A01F-57F6-4EA4-93EB-5E0A72D4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4D9A-554F-4DC4-97CD-4BBEB687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9DD3-0771-42D7-A20E-BF6C4CE7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4E32-58B7-42BD-AE45-EFFB21EC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5858-599A-4593-9543-91BB994A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2DAE-43C8-424F-9CD1-BD54CD7D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AD8D-E20D-4249-9795-B7FA264AFD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irstworldwar.com/" TargetMode="External"/><Relationship Id="rId3" Type="http://schemas.openxmlformats.org/officeDocument/2006/relationships/hyperlink" Target="http://europeanhistory.about.com/library/weekly/blww1countriesint.htm" TargetMode="External"/><Relationship Id="rId4" Type="http://schemas.openxmlformats.org/officeDocument/2006/relationships/hyperlink" Target="http://www.answers.com/topic/african-theatre-of-world-war-i" TargetMode="External"/><Relationship Id="rId5" Type="http://schemas.openxmlformats.org/officeDocument/2006/relationships/hyperlink" Target="http://www.iwmcollections.org.uk/" TargetMode="External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W1 – A global war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95640" y="333360"/>
            <a:ext cx="3117960" cy="59752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isoners in a cage of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Turkish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wire at Sedd El Bahr,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5651640" cy="4052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708000" y="260280"/>
            <a:ext cx="5256360" cy="612144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ictoria Cross Awards, 31 July 1917: Leslie William Andrew, Corporal, 2nd Battalion, Wellington Infantry Regiment, New Zealand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3705120" cy="5472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 one - Criter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5 mi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your group produce a grading scheme to determine the success/failure of the class video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will then present your groups proposed grading scheme to the class and we will vote – the winning one will be the one we use to assess each 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typ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 two – Discover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 in mixed groups of 3/4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earch one of the following nations involvement in WW1: Canada, Australia, New Zealand, India, South Africa or Turkey. (we need the class to cover all of them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You are looking for details such as: where is it, why was it involved, how many troops, which battles etc…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 three: 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group needs to present the information found in an entertaining and memorable way through a vide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ly about 2 – 4 minutes lo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typ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 four: Recor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group needs to record your presentatio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member 2 – 4 minutes in length and keep in mind the criteria we agreed 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typ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 five: Watch &amp; Ass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group will be assessed by the class according to the criteria agreed by the class in part 1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typ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iteria – In class lesson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cover - Homework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– In class lesson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rd – In class lesson 2/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ch &amp; Assess. – In class lesson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typ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www.firstworldwar.com/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http://europeanhistory.about.com/library/weekly/blww1countriesint.ht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http://www.answers.com/topic/african-theatre-of-world-war-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http://www.iwmcollections.org.uk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6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untries who were involved in WW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bani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abi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stral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stria-Hung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lgium and colon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azi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lgar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in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sta Ric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ub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zechoslovaki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stoni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l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ance and Empi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untries who were involved in WW1, part 2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at Britain and Empi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rmany and Empi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e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uatemal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it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ndur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d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aly and colon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ap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tvi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beri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thuan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whoosh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untries who were involved in WW1, part 3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uxembour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tenegr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caragu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na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si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ilippin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l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rtugal and coloni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mania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ussia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an Marino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rbia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iam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urke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ranscaucasia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ites States of Americ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whoosh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918560" cy="20905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 as you can see, it definitely deserved the name ‘World War’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whoo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did they f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stern front, Eastern front, Italian Front, West Africa, South-West Africa, Middle East, East Africa, Pacific Ocean islands, China, Balkans….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whoosh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360" y="274320"/>
            <a:ext cx="3384360" cy="59626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 member of the 3/3rd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Gurkh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Rifles asleep while off duty in the lin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5364000" cy="4091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51280" y="274320"/>
            <a:ext cx="3492360" cy="56754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 portrait of a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Gurkh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holding a kukri, somewhere on the Western Front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5580000" cy="4113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80000" y="333000"/>
            <a:ext cx="3276720" cy="624996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eutenant General Sir Pratap Singh with his son and the Rajah of Ratlam, at Sir Douglas Haig's Chateau at Montreuil, France.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5580000" cy="3970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14:59:32Z</dcterms:created>
  <dc:creator>Christopher Wright</dc:creator>
  <dc:description/>
  <dc:language>en-US</dc:language>
  <cp:lastModifiedBy>Christopher Wright</cp:lastModifiedBy>
  <dcterms:modified xsi:type="dcterms:W3CDTF">2007-03-03T16:38:16Z</dcterms:modified>
  <cp:revision>12</cp:revision>
  <dc:subject/>
  <dc:title>WW1 – A global war?</dc:title>
</cp:coreProperties>
</file>