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whoosh.wav" ContentType="audio/x-wav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0D5-556A-42E7-AD8C-A6F7B93A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E9E-5A16-4DE2-BAA9-EBB7CE9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9B3E-DA46-483F-AF7D-35283D1A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976-9B4D-47DB-A5EC-8D121AD3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3D4-3B8A-4C2D-B8B9-699171A1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B6B-3DF7-4F4E-88E1-7FF86E9F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78A-BB58-41F3-8C53-F56691E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E53-7D4A-44EF-80EC-2B21F5E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331-7583-4079-BB2A-C3993D18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72E-88D5-4479-9126-17771099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BFE7-9802-4665-A2D9-2C8F7971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85D-97E4-4F85-AA87-7CFC40C2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6AA-DE37-4804-899E-4476FFE069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" TargetMode="External"/><Relationship Id="rId3" Type="http://schemas.openxmlformats.org/officeDocument/2006/relationships/hyperlink" Target="http://europeanhistory.about.com/library/weekly/blww1countriesint.htm" TargetMode="External"/><Relationship Id="rId4" Type="http://schemas.openxmlformats.org/officeDocument/2006/relationships/hyperlink" Target="http://www.answers.com/topic/african-theatre-of-world-war-i" TargetMode="External"/><Relationship Id="rId5" Type="http://schemas.openxmlformats.org/officeDocument/2006/relationships/hyperlink" Target="http://www.iwmcollections.org.uk/" TargetMode="Externa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1 – A global w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5640" y="333360"/>
            <a:ext cx="3117960" cy="597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soners in a cage of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urkis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wire at Sedd El Bahr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6516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256360" cy="6121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ctoria Cross Awards, 31 July 1917: Leslie William Andrew, Corporal, 2nd Battalion, Wellington Infantry Regiment, New Zealand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0512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 - Criter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5 m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group produce a grading scheme to determine the success/failure of the class vide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ill then present your groups proposed grading scheme to the class and we will vote – the winning one will be the one we use to assess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wo – Disco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mixed groups of 3/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one of the following nations involvement in WW1: Canada, Australia, New Zealand, India, South Africa or Turkey. (we need the class to cover all of th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are looking for details such as: where is it, why was it involved, how many troops, which battles etc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hree: 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present the information found in an entertaining and memorable way through a vide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about 2 – 4 minutes lo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our: Rec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record your present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2 – 4 minutes in length and keep in mind the criteria we agreed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ive: Watch &amp; Ass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oup will be assessed by the class according to the criteria agreed by the class in part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a – In class less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ver - 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– In class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– In class lesson 2/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&amp; Assess. – In class less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firstworldwar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europeanhistory.about.com/library/weekly/blww1countriesint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www.answers.com/topic/african-theatre-of-world-war-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ww.iwmcollections.org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ba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ab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ia-Hung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gium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az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gar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i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ta Ric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zechoslovak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o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l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e and Emp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2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Britain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atema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t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ndu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aly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p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v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er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huan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3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uxembou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eneg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aragu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n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ilip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ugal and colon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s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n Marin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b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am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rke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nscauca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es States of Amer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905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as you can see, it definitely deserved the name ‘World War’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id they f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ern front, Eastern front, Italian Front, West Africa, South-West Africa, Middle East, East Africa, Pacific Ocean islands, China, Balkans…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360" y="274320"/>
            <a:ext cx="3384360" cy="59626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member of the 3/3rd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Rifles asleep while off duty in the l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536400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492360" cy="5675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portrait of a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olding a kukri, somewhere on the Western Fron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58000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276720" cy="62499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eutenant General Sir Pratap Singh with his son and the Rajah of Ratlam, at Sir Douglas Haig's Chateau at Montreuil, France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58000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4:59:32Z</dcterms:created>
  <dc:creator>Christopher Wright</dc:creator>
  <dc:description/>
  <dc:language>en-US</dc:language>
  <cp:lastModifiedBy>Christopher Wright</cp:lastModifiedBy>
  <dcterms:modified xsi:type="dcterms:W3CDTF">2007-03-03T16:38:16Z</dcterms:modified>
  <cp:revision>12</cp:revision>
  <dc:subject/>
  <dc:title>WW1 – A global war?</dc:title>
</cp:coreProperties>
</file>