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2.jpeg" ContentType="image/jpeg"/>
  <Override PartName="/ppt/media/train_horn.wav" ContentType="audio/x-wav"/>
  <Override PartName="/ppt/media/image4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rwright.wikispaces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630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6591240"/>
            <a:ext cx="39974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wol.objector.org/graphics/ur.jpg" TargetMode="External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in_horn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train_horn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audio" Target="../media/train_horn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audio" Target="../media/applause.wav"/><Relationship Id="rId22" Type="http://schemas.openxmlformats.org/officeDocument/2006/relationships/audio" Target="../media/applause.wav"/><Relationship Id="rId23" Type="http://schemas.openxmlformats.org/officeDocument/2006/relationships/audio" Target="../media/applause.wav"/><Relationship Id="rId24" Type="http://schemas.openxmlformats.org/officeDocument/2006/relationships/audio" Target="../media/applaus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nderground railro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underground and NOT a trai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 you can review all class materials online at: www.ismhistory.wordpress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488360" cy="620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arn more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Work as a class through 'the journey'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http://www.nationalgeographic.com/railroad/j1.html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and mak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notes on </a:t>
            </a: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specific people, obstacles/problems/difficulties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escaping slave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faced. (The class has 30 minutes max on the board). Work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s a team, make sure no one gets left behind! Afterwards we will play a game to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ake sure everyone has been paying attention: Click here to play!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2. Now in groups you need to create a three to five minute drama sketch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depicting one part of an escaping slave’s journey. You should decide wher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your sketch will take place and show these locations on a map (which will b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n the whiteboard). There can be several characters in a sketch, but you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must maintain realism by remembering that slaves usually traveled alone or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with just a few others. One group member may be a narrator. You should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lso explain to the class, either before or after their performances, what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they believe would have been the most difficult part or parts of thi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person’s experience.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2800440"/>
            <a:ext cx="6228000" cy="405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889308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Now in groups you need to create a three to five minute drama sketch depicting one part of an escaping slave’s journey. You should decide where your sketch will take place and show these locations on a Map. There can be several characters in a sketch, but you must maintain realism by remembering that slaves usually traveled alone or with just a few others. One group member may be a narrator. You should also explain to the class, either before or after their performances, what they believe would have been the most difficult part or parts of this person’s exper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3" name="train_hor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train_hor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awol.objector.org/graphics/ur.j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ationalgeographic.com/railroad/map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pbs.org/wgbh/aia/part4/4p2944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ationalgeographic.com/railroad/hfame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simplythebest.net/sounds/WAV/sound_effects_WAV/transportation_wavs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3" name="train_hor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282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Using your own words, explain what the Underground Railroad w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Why do you think it was so dangerous for those operating the railroa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hy then do you think people helped on the underground railroa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How important do you think the underground railroad wa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what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derground Railroad, was a vast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twork of people who helped escap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aves from the South of the USA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ch the safety to the North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ad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through to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lition of slavery in the United Sta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America in 186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  <p:sndAc>
      <p:stSnd>
        <p:snd r:embed="rId2" name="train_horn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1403280"/>
            <a:ext cx="691380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train_horn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was the underground railroa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h, Poor, Black, White, powerful peopl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inary people – many 1000’s of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ericans chose to help runaway slaves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eedom. Some simply provided a place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y overnight and some food, oth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re involved in encouraging escapes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ually campaigning against slave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64000" y="549360"/>
            <a:ext cx="1390680" cy="177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52720" y="2492280"/>
            <a:ext cx="142416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10160" y="404640"/>
            <a:ext cx="1476360" cy="1756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763640" y="260280"/>
            <a:ext cx="1530360" cy="175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510160" y="4149720"/>
            <a:ext cx="1633680" cy="1757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826920" y="4149720"/>
            <a:ext cx="1548000" cy="1755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237440" y="2924280"/>
            <a:ext cx="1390680" cy="1755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42704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971640" y="2276640"/>
            <a:ext cx="1477800" cy="177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3564000" y="4581360"/>
            <a:ext cx="1600200" cy="177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7380360" y="4869000"/>
            <a:ext cx="1565280" cy="177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7164360" y="549360"/>
            <a:ext cx="1548000" cy="1773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14" name="train_hor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6:19Z</dcterms:created>
  <dc:creator>cwright</dc:creator>
  <dc:description/>
  <dc:language>en-US</dc:language>
  <cp:lastModifiedBy>cwright</cp:lastModifiedBy>
  <dcterms:modified xsi:type="dcterms:W3CDTF">2007-03-26T11:00:51Z</dcterms:modified>
  <cp:revision>15</cp:revision>
  <dc:subject/>
  <dc:title>The underground railroad</dc:title>
</cp:coreProperties>
</file>