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camera.wav" ContentType="audio/x-wav"/>
  <Override PartName="/ppt/media/image6.png" ContentType="image/png"/>
  <Override PartName="/ppt/media/image11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2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403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9280" y="4197960"/>
            <a:ext cx="403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2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1967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605680" y="2204640"/>
            <a:ext cx="1967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9280" y="4197960"/>
            <a:ext cx="1967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2605680" y="4197960"/>
            <a:ext cx="1967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2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12981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02600" y="2204640"/>
            <a:ext cx="12981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66280" y="2204640"/>
            <a:ext cx="12981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9280" y="4197960"/>
            <a:ext cx="12981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1902600" y="4197960"/>
            <a:ext cx="12981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3266280" y="4197960"/>
            <a:ext cx="12981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2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9280" y="2204640"/>
            <a:ext cx="4032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2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4032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2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1967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2605680" y="2204640"/>
            <a:ext cx="1967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2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9640" y="549000"/>
            <a:ext cx="817272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2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1967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605680" y="2204640"/>
            <a:ext cx="1967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9280" y="4197960"/>
            <a:ext cx="1967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2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1967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605680" y="2204640"/>
            <a:ext cx="1967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605680" y="4197960"/>
            <a:ext cx="1967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2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1967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605680" y="2204640"/>
            <a:ext cx="19677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9280" y="4197960"/>
            <a:ext cx="4032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mrwright.wikispaces.com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2720" cy="1439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2204640"/>
            <a:ext cx="4032360" cy="3816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2608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00360" y="6591240"/>
            <a:ext cx="3995640" cy="2667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52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inisefans.org/csi/csi03.jpg" TargetMode="External"/><Relationship Id="rId2" Type="http://schemas.openxmlformats.org/officeDocument/2006/relationships/hyperlink" Target="http://z.about.com/d/animatedtv/1/0/a/lisa.jpg" TargetMode="External"/><Relationship Id="rId3" Type="http://schemas.openxmlformats.org/officeDocument/2006/relationships/hyperlink" Target="http://brocknet.net/images/Lance%20Armstrong.jpg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B Learner Profil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B learners strive to be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2720" cy="1439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lanc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4032360" cy="3816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stand and demonstrate the importance of developing intellectually, physically and emotionall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119400" cy="3816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9280" y="551664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nce Armstrong: Balanc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2720" cy="1439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v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4032360" cy="41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 about their learning and experi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stand their strengths and weaknesses and use this understanding to support their lear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544500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iger Woods: Reflect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14172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2720" cy="1439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6000" cy="3816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one expects you to ‘achieve’ all of these qualities straight away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rning is a life long thing: it doesn’t end after School/University  - the ‘learner profile’ is simply some common ideas that we can use to think about what kind of learners we try to b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2720" cy="1439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bliography - Im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6000" cy="3816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sinisefans.org/csi/csi03.jp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z.about.com/d/animatedtv/1/0/a/lisa.jp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http://brocknet.net/images/Lance%20Armstrong.jp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images.easyart.com/i/prints/rw/lg/2/2/Celebrity-Image-Muhammad-Ali--small-Size--223057.jp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jacob.efinke.com/ned.jp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www.valechumbar.com/media/1/20050829-collina.jp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www.uniclima.org.pe/fotos/CINU%20fotos/kofi%20annan-secr%20gnral.jp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www.africanamericans.com/images2/TigerWoods.jp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4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2720" cy="1439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quir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4032360" cy="3816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curious and love to find out thin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use their skills to do independent researc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67280" y="1989000"/>
            <a:ext cx="4643280" cy="3095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67280" y="53006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CSI Detectives: Inquire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2720" cy="1439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Knowledge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4032360" cy="3816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in-depth knowledge and understanding about a variety of top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2617920" cy="360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16360" y="530064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isa Simpson: Knowledgeab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2720" cy="1439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4032360" cy="3816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y their thinking skills in a variety of ways to make reasoned decis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205080" cy="3384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76720" y="5157720"/>
            <a:ext cx="35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fucius: Think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2720" cy="1439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unic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4032360" cy="3816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ress ideas confidently and creatively in more than one language and in many way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 well with oth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313080" cy="3114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27640" y="515772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rtin Luther King Jr: Communicato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2720" cy="1439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4032360" cy="3816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honest and fai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responsibility for their own 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2762280" cy="3724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16360" y="537372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ierluigi Collina: Principl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2720" cy="1439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-min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4032360" cy="3816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open to different points of 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ognize that many different perspectives exist and improve their own understanding through thi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666880" cy="338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0" y="5084640"/>
            <a:ext cx="40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Kofi Annan (former head of the United Nations): Open-mi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72720" cy="1439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103640" cy="41050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 compassion and respect for the needs and feelings of oth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t to make a positive difference in their communi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456000" cy="2868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217000" y="4869000"/>
            <a:ext cx="458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3280" y="4797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d Flanders: Car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172720" cy="792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-ta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4032360" cy="3816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lore new ideas and strateg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 courage in unfamiliar situation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end their belief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095640" cy="3810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040360" y="558972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hammad Ali: Risk t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1:50:43Z</dcterms:created>
  <dc:creator>cwright</dc:creator>
  <dc:description/>
  <dc:language>en-US</dc:language>
  <cp:lastModifiedBy>cwright</cp:lastModifiedBy>
  <dcterms:modified xsi:type="dcterms:W3CDTF">2007-04-03T14:57:25Z</dcterms:modified>
  <cp:revision>29</cp:revision>
  <dc:subject/>
  <dc:title>The IB Learner Profile </dc:title>
</cp:coreProperties>
</file>