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arrow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mrwright.wikispac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539640" y="630864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700360" y="6591240"/>
            <a:ext cx="3995640" cy="26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reetheslaves.net/" TargetMode="External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rn sla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00000" y="3499920"/>
            <a:ext cx="705672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modern slaver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 thanks to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www.freetheslaves.net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for information &amp; resour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heel spokes="8"/>
    <p:sndAc>
      <p:stSnd>
        <p:snd r:embed="rId2" name="arrow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examples.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twelve year old girl in India is married to a 60 year old man. She has no choice in this and must work as a servant in his househol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heel spokes="8"/>
    <p:sndAc>
      <p:stSnd>
        <p:snd r:embed="rId1" name="arrow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examples.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ilal is twenty; he is owned by a farmer in Benin, West Africa. His father, mother, brothers and sisters are also owned by this man. They all work on his farm; they are given a little food but no pa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heel spokes="8"/>
    <p:sndAc>
      <p:stSnd>
        <p:snd r:embed="rId1" name="arrow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examples.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prisoner in Burma is forced to work building roads for the Government; he is chained to his fellow-prisoners and is given no pay for his work. He is often beaten by guard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heel spokes="8"/>
    <p:sndAc>
      <p:stSnd>
        <p:snd r:embed="rId1" name="arrow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examples.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man in India is forced to work in a mine to repay a debt to the mine-owner but the interest he is charged means that he will never be able to repay the loan. He is trappe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heel spokes="8"/>
    <p:sndAc>
      <p:stSnd>
        <p:snd r:embed="rId1" name="arrow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as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 a group read through the examples you have been given and come up with key words &amp; ideas which are common to many of the stories. e.g. no choi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heel spokes="8"/>
    <p:sndAc>
      <p:stSnd>
        <p:snd r:embed="rId1" name="arrow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ally.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ke a look at the ‘fact sheet’ you have been giv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facts most surprise you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do you think is the cause of some of these problem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heel spokes="8"/>
    <p:sndAc>
      <p:stSnd>
        <p:snd r:embed="rId1" name="arrow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slaver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heel spokes="8"/>
    <p:sndAc>
      <p:stSnd>
        <p:snd r:embed="rId1" name="arrow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47640" y="981000"/>
            <a:ext cx="6350040" cy="47624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" name="arrow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7813800" cy="53751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" name="arrow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692360" y="1125360"/>
            <a:ext cx="6350040" cy="4229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" name="arrow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03280" y="1125360"/>
            <a:ext cx="6350040" cy="4292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" name="arrow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815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" name="arrow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xamples of modern day slaver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901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eleven year old child in Pakistan is forced to weave carpets to repay a debt his father owes; he works 14 hours a day, sleeps by his loom and cannot leave the carpet factory or he will be caught and beate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heel spokes="8"/>
    <p:sndAc>
      <p:stSnd>
        <p:snd r:embed="rId1" name="arrow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examples.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901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poor young woman from Thailand is tricked into going to Europe where she is promised a job in a restaurant; she is forced to work as a prostitute and is prevented from leaving as she has no identity papers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heel spokes="8"/>
    <p:sndAc>
      <p:stSnd>
        <p:snd r:embed="rId1" name="arrow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7T08:08:07Z</dcterms:created>
  <dc:creator>cwright</dc:creator>
  <dc:description/>
  <dc:language>en-US</dc:language>
  <cp:lastModifiedBy>cwright</cp:lastModifiedBy>
  <dcterms:modified xsi:type="dcterms:W3CDTF">2007-04-27T12:48:56Z</dcterms:modified>
  <cp:revision>9</cp:revision>
  <dc:subject/>
  <dc:title>Modern slavery</dc:title>
</cp:coreProperties>
</file>