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rwright.wikispaces.com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30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6591240"/>
            <a:ext cx="39956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atteredcoat.com/images/censorship.j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sorship in WW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I disapprove of what you say, but I will defend to the death your right to say it"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censorship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sorsh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vernment restrictions on speech 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cuss in grou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, if ever, is Censorship acceptable in your opin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do governments censor information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rotect secrets (e.g. battle plans, where troops are et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over up mistak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revent op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ency reasons (e.g. swearing, nudity et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ontrol peoples actions and opin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ensorship in WW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oops had their letters &amp; postcards home censo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ever most soldiers exercised ‘self censorship’. This is where people know that saying certain things is not allowed so they don’t say/write them at all in the first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s at home was heavily censored to cover up mistakes and terrible defea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vidual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you are going to censor your own trench let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ck your trench letter into the middle of an A3 piece of pa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cross out with a pencil any sections that you think would be censo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to each censored section explain why this would have been censo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have finished on a separate piece of paper write a 250 word response to the question ‘Can censorship ever be justified?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enary – when might censorship be justified? (if ever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tatteredcoat.com/images/censorship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3:58:04Z</dcterms:created>
  <dc:creator>cwright</dc:creator>
  <dc:description/>
  <dc:language>en-US</dc:language>
  <cp:lastModifiedBy>cwright</cp:lastModifiedBy>
  <dcterms:modified xsi:type="dcterms:W3CDTF">2007-04-16T13:58:52Z</dcterms:modified>
  <cp:revision>8</cp:revision>
  <dc:subject/>
  <dc:title>Censorship in WW1</dc:title>
</cp:coreProperties>
</file>