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4EC-5DF0-451B-A0E5-6FEFDC1B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D00-8855-4EF3-A1B2-48D962D2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B6E-C4A1-4E2F-8011-D3343CD3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DAE-9E06-4FDF-8911-8ADB13A7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ABE-EA41-43D1-AE22-3E5DF312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241-0440-41A3-BDA2-59C2BDA1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B85-F9EE-4DAC-98B5-4F6E927A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046-DAEB-4CA0-B2D5-93A33090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585-C017-433C-8AB9-7CEF1592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8BA-E810-4CAE-A892-E3AC5560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274-17AD-48B0-93B7-616A02B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8FD-E750-49EA-8BAF-D5509215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0A9C-91CC-4079-B462-F3F34047F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7885080" cy="684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0"/>
            <a:ext cx="212400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= In Britain there were mass boycotts of slave produced products such as su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= William Wilberforce helped form the Society for the abolition of the slave trade in Brit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= Ordinary people in Britain signed petitions and joined the campaign to abolish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 = Toussaint Louverture led a war that defeated the French &amp; British and formed the first free former slave country: Hai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 = Frequent slave revolts and rebellions in the colo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=The Underground Railroad helped 1000’s of slaves escape and they told people of their suff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 =9 out of the 12 original members of the Society for the abolition of the slave trade were white Quak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 = Religious figures started speaking out against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 = Black former slaves such as Olaudah Equiano campaigned and told the public about their experie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 = Many women campaigned against the slave trad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 = Some argue that the profitability of slavery was reducing by the early 19th Cent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s for the Abolition of the Slave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9080" y="6289560"/>
            <a:ext cx="622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ut the letters into the appropriate place on the Venn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our opinion what was the most significant cause of the abolition of the slave trad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9:33:10Z</dcterms:created>
  <dc:creator>cwright</dc:creator>
  <dc:description/>
  <dc:language>en-US</dc:language>
  <cp:lastModifiedBy>cwright</cp:lastModifiedBy>
  <dcterms:modified xsi:type="dcterms:W3CDTF">2007-04-23T09:52:37Z</dcterms:modified>
  <cp:revision>4</cp:revision>
  <dc:subject/>
  <dc:title>Slide 1</dc:title>
</cp:coreProperties>
</file>