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6D4-A4E0-4883-8CE7-D8B7DC12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92D-111E-48A9-B705-51FF8B07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EA3-191C-4ABA-BB63-0CEBB640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455-46A4-498C-943C-6BD8B167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E3F-C1F5-44D5-B388-D27AA6E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7AA-E43E-4B93-AD0C-B6A5F817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99F-1CDA-402C-B9EB-D3DFD03B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64B-6E62-4E64-B0E9-0D668D3F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699-DBAC-4CBE-A2D0-6F938CF7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9B9-0A31-446A-BB42-27575877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2D7-B572-4296-8F41-EBADC62C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4EB-926C-4075-8FF3-E887BB9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0F0-38D7-497D-8E26-94A4F3C06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7885080" cy="684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0"/>
            <a:ext cx="212400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= In Britain there were mass boycotts of slave produced products such as su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= William Wilberforce helped form the Society for the abolition of the slave trade in Brit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= Ordinary people in Britain signed petitions and joined the campaign to abolish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 = Toussaint Louverture led a war that defeated the French &amp; British and formed the first free former slave country: Hai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 = Frequent slave revolts and rebellions in the colo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=The Underground Railroad helped 1000’s of slaves escape and they told people of their suff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 =9 out of the 12 original members of the Society for the abolition of the slave trade were white Quak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 = Religious figures started speaking out against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 = Black former slaves such as Olaudah Equiano campaigned and told the public about their experie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 = Many women campaigned against the slave trad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 = Some argue that the profitability of slavery was reducing by the early 19th Cent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s for the Abolition of the Slave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9080" y="6289560"/>
            <a:ext cx="622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ut the letters into the appropriate place on the Venn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our opinion what was the most significant cause of the abolition of the slave trad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9:33:10Z</dcterms:created>
  <dc:creator>cwright</dc:creator>
  <dc:description/>
  <dc:language>en-US</dc:language>
  <cp:lastModifiedBy>cwright</cp:lastModifiedBy>
  <dcterms:modified xsi:type="dcterms:W3CDTF">2007-04-23T09:52:37Z</dcterms:modified>
  <cp:revision>4</cp:revision>
  <dc:subject/>
  <dc:title>Slide 1</dc:title>
</cp:coreProperties>
</file>