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397-0089-45B8-B5CF-8F55149B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D77-13BA-4A03-B3DB-F33D02C1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6A8-8508-4D2B-B4DB-EE7EBEB2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79E-F7AE-4B20-91ED-A94F1C6C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0B6-E12A-46D6-A258-45C05DF1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8D8-4A59-4BBA-BBFE-F46C9E34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4DB-6FF8-4661-BD4F-3043542D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378-1745-4E40-8DFB-66A0E305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2BF-39E1-47C7-957E-ED448556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DA8-DE83-4F79-A6AB-FD9A7375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37C-63B8-49A5-A9BE-D1B4FFC9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3A3-8F12-4275-A37D-A55E644D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62BB-3824-48CF-8F8B-076923EF9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7885080" cy="684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20000" y="0"/>
            <a:ext cx="212400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= In Britain there were mass boycotts of slave produced products such as su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= William Wilberforce helped form the Society for the abolition of the slave trade in Brita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= Ordinary people in Britain signed petitions and joined the campaign to abolish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 = Toussaint Louverture led a war that defeated the French &amp; British and formed the first free former slave country: Hai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 = Frequent slave revolts and rebellions in the colo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 =The Underground Railroad helped 1000’s of slaves escape and they told people of their suffer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 =9 out of the 12 original members of the Society for the abolition of the slave trade were white Quak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 = Religious figures started speaking out against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 = Black former slaves such as Olaudah Equiano campaigned and told the public about their experien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 = Many women campaigned against the slave trad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 = Some argue that the profitability of slavery was reducing by the early 19th Cent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0"/>
            <a:ext cx="55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s for the Abolition of the Slave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9080" y="6289560"/>
            <a:ext cx="622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Put the letters into the appropriate place on the Venn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our opinion what was the most significant cause of the abolition of the slave trad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9:33:10Z</dcterms:created>
  <dc:creator>cwright</dc:creator>
  <dc:description/>
  <dc:language>en-US</dc:language>
  <cp:lastModifiedBy>cwright</cp:lastModifiedBy>
  <dcterms:modified xsi:type="dcterms:W3CDTF">2007-04-23T09:52:37Z</dcterms:modified>
  <cp:revision>4</cp:revision>
  <dc:subject/>
  <dc:title>Slide 1</dc:title>
</cp:coreProperties>
</file>