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CAC4-597E-4053-A1CE-0BBE3BB9E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5A3B-1F62-4E52-BF4F-493B1598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8338-314F-44E7-87E6-9DEB000F4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B2C5-3FE5-4F77-AB51-12546BE11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9533-56EA-4793-BD21-0769A43F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F020-7C16-4E53-AEE8-F9DAB525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BCA4-C11F-4516-9506-4F9DEF2C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CB7E-0586-402A-84AB-93BDC969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EF7E-F724-4752-9604-D364244B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8902-B120-4BB6-B690-C14BED9B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2440-E4F2-4369-93AB-C65100E6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0E6D-DEA5-4D20-A0CF-41E1D5A4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AB6E-5F48-44EE-B920-8F0054781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52360" y="549360"/>
            <a:ext cx="7885080" cy="6840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020000" y="0"/>
            <a:ext cx="2124000" cy="63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= In Britain there were mass boycotts of slave produced products such as sug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= William Wilberforce helped form the Society for the abolition of the slave trade in Britai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= Ordinary people in Britain signed petitions and joined the campaign to abolish slav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 = Toussaint Louverture led a war that defeated the French &amp; British and formed the first free former slave country: Hait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 = Frequent slave revolts and rebellions in the colon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 =The Underground Railroad helped 1000’s of slaves escape and they told people of their suffer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 =9 out of the 12 original members of the Society for the abolition of the slave trade were white Quak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 = Religious figures started speaking out against slav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 = Black former slaves such as Olaudah Equiano campaigned and told the public about their experien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 = Many women campaigned against the slave trade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 = Some argue that the profitability of slavery was reducing by the early 19th Centu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0"/>
            <a:ext cx="556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sons for the Abolition of the Slave T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19080" y="6289560"/>
            <a:ext cx="6223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Put the letters into the appropriate place on the Venn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In your opinion what was the most significant cause of the abolition of the slave trad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your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09:33:10Z</dcterms:created>
  <dc:creator>cwright</dc:creator>
  <dc:description/>
  <dc:language>en-US</dc:language>
  <cp:lastModifiedBy>cwright</cp:lastModifiedBy>
  <dcterms:modified xsi:type="dcterms:W3CDTF">2007-04-23T09:52:37Z</dcterms:modified>
  <cp:revision>4</cp:revision>
  <dc:subject/>
  <dc:title>Slide 1</dc:title>
</cp:coreProperties>
</file>