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FAE-A970-4293-893B-3BC14F50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A34-A13A-45B8-B8F0-1E6AB0EB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ED7-1B9B-4374-90FF-A988F3D0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476-DB05-4255-B280-7978CE01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77D-B03E-4C95-B0A9-2C913A91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4BA7-B5FE-45EE-ADAB-1130E3F3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89D0-4A84-42B7-B0FA-D6EC310B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D02-332D-49A2-AD27-13622F0C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0BC-6673-44D7-92DC-C5D20A36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295-1CFA-446E-9183-6BC2B5BD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E53-55A4-4E82-99C3-5BEE2BE1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54C-F586-4973-825C-5A26457E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F93B-26A4-42E6-A996-A4BECBB94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549360"/>
            <a:ext cx="7885080" cy="684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20000" y="0"/>
            <a:ext cx="2124000" cy="63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= In Britain there were mass boycotts of slave produced products such as su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= William Wilberforce helped form the Society for the abolition of the slave trade in Britai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= Ordinary people in Britain signed petitions and joined the campaign to abolish sla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 = Toussaint Louverture led a war that defeated the French &amp; British and formed the first free former slave country: Hait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 = Frequent slave revolts and rebellions in the colon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 =The Underground Railroad helped 1000’s of slaves escape and they told people of their suffer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 =9 out of the 12 original members of the Society for the abolition of the slave trade were white Quak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 = Religious figures started speaking out against sla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 = Black former slaves such as Olaudah Equiano campaigned and told the public about their experien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 = Many women campaigned against the slave trade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 = Some argue that the profitability of slavery was reducing by the early 19th Centu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0"/>
            <a:ext cx="55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sons for the Abolition of the Slave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9080" y="6289560"/>
            <a:ext cx="6223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Put the letters into the appropriate place on the Venn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n your opinion what was the most significant cause of the abolition of the slave trad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9:33:10Z</dcterms:created>
  <dc:creator>cwright</dc:creator>
  <dc:description/>
  <dc:language>en-US</dc:language>
  <cp:lastModifiedBy>cwright</cp:lastModifiedBy>
  <dcterms:modified xsi:type="dcterms:W3CDTF">2007-04-23T09:52:37Z</dcterms:modified>
  <cp:revision>4</cp:revision>
  <dc:subject/>
  <dc:title>Slide 1</dc:title>
</cp:coreProperties>
</file>