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959C-361B-4945-8537-0B215A0C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3285-20BE-4022-B6EF-689F647D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C7B-ADAA-4590-9389-F5139D2F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B377-D80F-4E68-94D0-8CB3A4B1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C32-85E2-4521-821A-6E183765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5565-B536-4EB8-A740-A9D67AAD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FB4-2C55-4285-AEEB-42219C41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834-79B5-4E8B-8EE1-ABF48101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FE75-9C8C-488E-BE72-2E064894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B7EC-7077-4117-A70D-DA9C824C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5D7-5AB0-4137-8AB2-7EBBCD0A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AE7-DBF3-4286-A448-964499B7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46A1-1573-430C-AC9A-20633A9ED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549360"/>
            <a:ext cx="7885080" cy="684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020000" y="0"/>
            <a:ext cx="2124000" cy="63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= In Britain there were mass boycotts of slave produced products such as su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= William Wilberforce helped form the Society for the abolition of the slave trade in Britai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= Ordinary people in Britain signed petitions and joined the campaign to abolish sla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 = Toussaint Louverture led a war that defeated the French &amp; British and formed the first free former slave country: Hait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 = Frequent slave revolts and rebellions in the colon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 =The Underground Railroad helped 1000’s of slaves escape and they told people of their suffer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 =9 out of the 12 original members of the Society for the abolition of the slave trade were white Quak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 = Religious figures started speaking out against sla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 = Black former slaves such as Olaudah Equiano campaigned and told the public about their experien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 = Many women campaigned against the slave trade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 = Some argue that the profitability of slavery was reducing by the early 19th Centu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0"/>
            <a:ext cx="55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sons for the Abolition of the Slave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9080" y="6289560"/>
            <a:ext cx="6223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Put the letters into the appropriate place on the Venn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n your opinion what was the most significant cause of the abolition of the slave trad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9:33:10Z</dcterms:created>
  <dc:creator>cwright</dc:creator>
  <dc:description/>
  <dc:language>en-US</dc:language>
  <cp:lastModifiedBy>cwright</cp:lastModifiedBy>
  <dcterms:modified xsi:type="dcterms:W3CDTF">2007-04-23T09:52:37Z</dcterms:modified>
  <cp:revision>4</cp:revision>
  <dc:subject/>
  <dc:title>Slide 1</dc:title>
</cp:coreProperties>
</file>