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amera.wav" ContentType="audio/x-wav"/>
  <Override PartName="/ppt/media/image7.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Click to edit the title text format</a:t>
            </a:r>
            <a:endParaRPr b="0" lang="en-US" sz="4400" spc="-1" strike="noStrike">
              <a:solidFill>
                <a:srgbClr val="dfd293"/>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7L Medieval Doctors presentation</a:t>
            </a:r>
            <a:endParaRPr b="0" lang="en-US" sz="4400" spc="-1" strike="noStrike">
              <a:solidFill>
                <a:srgbClr val="dfd293"/>
              </a:solidFill>
              <a:latin typeface="Comic Sans MS"/>
            </a:endParaRPr>
          </a:p>
        </p:txBody>
      </p:sp>
      <p:sp>
        <p:nvSpPr>
          <p:cNvPr id="41" name="PlaceHolder 2"/>
          <p:cNvSpPr>
            <a:spLocks noGrp="1"/>
          </p:cNvSpPr>
          <p:nvPr>
            <p:ph type="subTitle"/>
          </p:nvPr>
        </p:nvSpPr>
        <p:spPr>
          <a:xfrm>
            <a:off x="1371600" y="3886200"/>
            <a:ext cx="6400800" cy="1752480"/>
          </a:xfrm>
          <a:prstGeom prst="rect">
            <a:avLst/>
          </a:prstGeom>
          <a:solidFill>
            <a:srgbClr val="80000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duced by the members of 7L, put together by Mr. Wright</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Conclusion</a:t>
            </a:r>
            <a:endParaRPr b="0" lang="en-US" sz="4400" spc="-1" strike="noStrike">
              <a:solidFill>
                <a:srgbClr val="dfd293"/>
              </a:solidFill>
              <a:latin typeface="Comic Sans MS"/>
            </a:endParaRPr>
          </a:p>
        </p:txBody>
      </p:sp>
      <p:sp>
        <p:nvSpPr>
          <p:cNvPr id="62"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y this information, we think that for the medieval times, they were good doctors with experience, but in modern times, if a doctor did these treatments to patients or did the idea that it was because god or the worms he would go in prison.</a:t>
            </a:r>
            <a:endParaRPr b="0" lang="en-US" sz="1800" spc="-1" strike="noStrike">
              <a:solidFill>
                <a:srgbClr val="ffffff"/>
              </a:solidFill>
              <a:latin typeface="Comic Sans MS"/>
            </a:endParaRPr>
          </a:p>
        </p:txBody>
      </p:sp>
    </p:spTree>
  </p:cSld>
  <p:transition spd="med">
    <p:zoom dir="out"/>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Medieval Doctors task</a:t>
            </a:r>
            <a:endParaRPr b="0" lang="en-US" sz="4400" spc="-1" strike="noStrike">
              <a:solidFill>
                <a:srgbClr val="dfd293"/>
              </a:solidFill>
              <a:latin typeface="Comic Sans MS"/>
            </a:endParaRPr>
          </a:p>
        </p:txBody>
      </p:sp>
      <p:sp>
        <p:nvSpPr>
          <p:cNvPr id="64" name="PlaceHolder 2"/>
          <p:cNvSpPr>
            <a:spLocks noGrp="1"/>
          </p:cNvSpPr>
          <p:nvPr>
            <p:ph type="subTitle"/>
          </p:nvPr>
        </p:nvSpPr>
        <p:spPr>
          <a:xfrm>
            <a:off x="1371600" y="3886200"/>
            <a:ext cx="6400800" cy="1752480"/>
          </a:xfrm>
          <a:prstGeom prst="rect">
            <a:avLst/>
          </a:prstGeom>
          <a:solidFill>
            <a:srgbClr val="80000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treatment of everyday illness</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Toothache</a:t>
            </a:r>
            <a:endParaRPr b="0" lang="en-US" sz="4400" spc="-1" strike="noStrike">
              <a:solidFill>
                <a:srgbClr val="dfd293"/>
              </a:solidFill>
              <a:latin typeface="Comic Sans MS"/>
            </a:endParaRPr>
          </a:p>
        </p:txBody>
      </p:sp>
      <p:sp>
        <p:nvSpPr>
          <p:cNvPr id="66"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ke a candle of sheep fat</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ght it up</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t it as close as possible to the tooth</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ld a container of cold water under the tooth</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worms that are eating the tooth will escape from the heat and fall into the water </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Heart Disease</a:t>
            </a:r>
            <a:endParaRPr b="0" lang="en-US" sz="4400" spc="-1" strike="noStrike">
              <a:solidFill>
                <a:srgbClr val="dfd293"/>
              </a:solidFill>
              <a:latin typeface="Comic Sans MS"/>
            </a:endParaRPr>
          </a:p>
        </p:txBody>
      </p:sp>
      <p:sp>
        <p:nvSpPr>
          <p:cNvPr id="68"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Give the patient a medicine of herbs (drugs).</a:t>
            </a:r>
            <a:endParaRPr b="0" lang="en-US" sz="3600" spc="-1" strike="noStrike">
              <a:solidFill>
                <a:srgbClr val="ffffff"/>
              </a:solidFill>
              <a:latin typeface="Comic Sans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eat him with powdered animal skull.</a:t>
            </a:r>
            <a:endParaRPr b="0" lang="en-US" sz="3600" spc="-1" strike="noStrike">
              <a:solidFill>
                <a:srgbClr val="ffffff"/>
              </a:solidFill>
              <a:latin typeface="Comic Sans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Juice of boiled frogs and dead insect</a:t>
            </a:r>
            <a:endParaRPr b="0" lang="en-US" sz="3600" spc="-1" strike="noStrike">
              <a:solidFill>
                <a:srgbClr val="ffffff"/>
              </a:solidFill>
              <a:latin typeface="Comic Sans MS"/>
            </a:endParaRPr>
          </a:p>
        </p:txBody>
      </p:sp>
    </p:spTree>
  </p:cSld>
  <p:transition spd="med">
    <p:zoom dir="out"/>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Bad digestion </a:t>
            </a:r>
            <a:endParaRPr b="0" lang="en-US" sz="4400" spc="-1" strike="noStrike">
              <a:solidFill>
                <a:srgbClr val="dfd293"/>
              </a:solidFill>
              <a:latin typeface="Comic Sans MS"/>
            </a:endParaRPr>
          </a:p>
        </p:txBody>
      </p:sp>
      <p:sp>
        <p:nvSpPr>
          <p:cNvPr id="70"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ut a vein to remove the excess blood.</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blood-sucking leeches.</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Asthma </a:t>
            </a:r>
            <a:endParaRPr b="0" lang="en-US" sz="4400" spc="-1" strike="noStrike">
              <a:solidFill>
                <a:srgbClr val="dfd293"/>
              </a:solidFill>
              <a:latin typeface="Comic Sans MS"/>
            </a:endParaRPr>
          </a:p>
        </p:txBody>
      </p:sp>
      <p:sp>
        <p:nvSpPr>
          <p:cNvPr id="72"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ut a fox’s lung into wine then drink it</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Development of knowledge and skills!</a:t>
            </a:r>
            <a:endParaRPr b="0" lang="en-US" sz="4400" spc="-1" strike="noStrike">
              <a:solidFill>
                <a:srgbClr val="dfd293"/>
              </a:solidFill>
              <a:latin typeface="Comic Sans MS"/>
            </a:endParaRPr>
          </a:p>
        </p:txBody>
      </p:sp>
      <p:sp>
        <p:nvSpPr>
          <p:cNvPr id="74" name="PlaceHolder 2"/>
          <p:cNvSpPr>
            <a:spLocks noGrp="1"/>
          </p:cNvSpPr>
          <p:nvPr>
            <p:ph type="subTitle"/>
          </p:nvPr>
        </p:nvSpPr>
        <p:spPr>
          <a:xfrm>
            <a:off x="1371600" y="3886200"/>
            <a:ext cx="6400800" cy="1752480"/>
          </a:xfrm>
          <a:prstGeom prst="rect">
            <a:avLst/>
          </a:prstGeom>
          <a:solidFill>
            <a:srgbClr val="80000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a:t>
            </a:r>
            <a:r>
              <a:rPr b="0" lang="en-US" sz="3200" spc="-1" strike="noStrike">
                <a:solidFill>
                  <a:srgbClr val="ffffff"/>
                </a:solidFill>
                <a:latin typeface="Comic Sans MS"/>
                <a:ea typeface="Arial"/>
              </a:rPr>
              <a:t>: Lucrezia, Carlo, Naomi and Alessia!  </a:t>
            </a:r>
            <a:r>
              <a:rPr b="0" lang="en-US" sz="3200" spc="-1" strike="noStrike">
                <a:solidFill>
                  <a:srgbClr val="ffffff"/>
                </a:solidFill>
                <a:latin typeface="Comic Sans MS"/>
              </a:rPr>
              <a:t> </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Dissection </a:t>
            </a:r>
            <a:endParaRPr b="0" lang="en-US" sz="4400" spc="-1" strike="noStrike">
              <a:solidFill>
                <a:srgbClr val="dfd293"/>
              </a:solidFill>
              <a:latin typeface="Comic Sans MS"/>
            </a:endParaRPr>
          </a:p>
        </p:txBody>
      </p:sp>
      <p:sp>
        <p:nvSpPr>
          <p:cNvPr id="76"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uy de chauliac in the 14</a:t>
            </a:r>
            <a:r>
              <a:rPr b="0" lang="en-US" sz="3200" spc="-1" strike="noStrike" baseline="30000">
                <a:solidFill>
                  <a:srgbClr val="ffffff"/>
                </a:solidFill>
                <a:latin typeface="Comic Sans MS"/>
              </a:rPr>
              <a:t>th</a:t>
            </a:r>
            <a:r>
              <a:rPr b="0" lang="en-US" sz="3200" spc="-1" strike="noStrike">
                <a:solidFill>
                  <a:srgbClr val="ffffff"/>
                </a:solidFill>
                <a:latin typeface="Comic Sans MS"/>
              </a:rPr>
              <a:t> century encouraged the dissection of dead bodies but it was forbidden by the church.  When the church gave him permission he learned the anatomy of the internal organs, muscles, skin, veins and sinews. In 1340 students in Montpelier were allowed to study the bodies.   </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Anesthetics </a:t>
            </a:r>
            <a:endParaRPr b="0" lang="en-US" sz="4400" spc="-1" strike="noStrike">
              <a:solidFill>
                <a:srgbClr val="dfd293"/>
              </a:solidFill>
              <a:latin typeface="Comic Sans MS"/>
            </a:endParaRPr>
          </a:p>
        </p:txBody>
      </p:sp>
      <p:sp>
        <p:nvSpPr>
          <p:cNvPr id="78"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esthetics are medicines given to patients to stop the pain. The problems with anesthetics were that if they exaggerated patients could die, but soon were made some recipes anesthetics. Now anesthetics are used a lot and they are safer than the ones used in medieval times.            </a:t>
            </a:r>
            <a:endParaRPr b="0" lang="en-US" sz="3200" spc="-1" strike="noStrike">
              <a:solidFill>
                <a:srgbClr val="ffffff"/>
              </a:solidFill>
              <a:latin typeface="Comic Sans MS"/>
            </a:endParaRPr>
          </a:p>
        </p:txBody>
      </p:sp>
    </p:spTree>
  </p:cSld>
  <p:transition spd="med">
    <p:zoom dir="out"/>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Medicines in war</a:t>
            </a:r>
            <a:endParaRPr b="0" lang="en-US" sz="4400" spc="-1" strike="noStrike">
              <a:solidFill>
                <a:srgbClr val="dfd293"/>
              </a:solidFill>
              <a:latin typeface="Comic Sans MS"/>
            </a:endParaRPr>
          </a:p>
        </p:txBody>
      </p:sp>
      <p:sp>
        <p:nvSpPr>
          <p:cNvPr id="80"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n war some surgeons were brought to cure the wounds of soldiers.  </a:t>
            </a:r>
            <a:endParaRPr b="0" lang="en-US" sz="3200" spc="-1" strike="noStrike">
              <a:solidFill>
                <a:srgbClr val="ffffff"/>
              </a:solidFill>
              <a:latin typeface="Comic Sans MS"/>
            </a:endParaRPr>
          </a:p>
        </p:txBody>
      </p:sp>
      <p:pic>
        <p:nvPicPr>
          <p:cNvPr id="81" name="" descr=""/>
          <p:cNvPicPr/>
          <p:nvPr/>
        </p:nvPicPr>
        <p:blipFill>
          <a:blip r:embed="rId1"/>
          <a:stretch/>
        </p:blipFill>
        <p:spPr>
          <a:xfrm>
            <a:off x="5638680" y="2286000"/>
            <a:ext cx="3138480" cy="4419720"/>
          </a:xfrm>
          <a:prstGeom prst="rect">
            <a:avLst/>
          </a:prstGeom>
          <a:ln w="0">
            <a:noFill/>
          </a:ln>
        </p:spPr>
      </p:pic>
      <p:sp>
        <p:nvSpPr>
          <p:cNvPr id="82" name=""/>
          <p:cNvSpPr/>
          <p:nvPr/>
        </p:nvSpPr>
        <p:spPr>
          <a:xfrm>
            <a:off x="155880" y="6491160"/>
            <a:ext cx="51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designboom.com/world/fmr/kos/6.html</a:t>
            </a:r>
            <a:endParaRPr b="0" lang="en-US" sz="1800" spc="-1" strike="noStrike">
              <a:solidFill>
                <a:srgbClr val="ffffff"/>
              </a:solidFill>
              <a:latin typeface="Arial"/>
            </a:endParaRPr>
          </a:p>
        </p:txBody>
      </p:sp>
      <p:sp>
        <p:nvSpPr>
          <p:cNvPr id="83" name=""/>
          <p:cNvSpPr/>
          <p:nvPr/>
        </p:nvSpPr>
        <p:spPr>
          <a:xfrm>
            <a:off x="152280" y="3962520"/>
            <a:ext cx="487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man with lots of wounds. It is a picture of what they thought about the human body. It is very simelar to what we know. </a:t>
            </a:r>
            <a:endParaRPr b="0" lang="en-US" sz="1800" spc="-1" strike="noStrike">
              <a:solidFill>
                <a:srgbClr val="ffffff"/>
              </a:solidFill>
              <a:latin typeface="Arial"/>
            </a:endParaRPr>
          </a:p>
        </p:txBody>
      </p:sp>
      <p:sp>
        <p:nvSpPr>
          <p:cNvPr id="84" name=""/>
          <p:cNvSpPr/>
          <p:nvPr/>
        </p:nvSpPr>
        <p:spPr>
          <a:xfrm flipV="1">
            <a:off x="4724280" y="3276360"/>
            <a:ext cx="11430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zoom dir="ou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2" name=""/>
          <p:cNvSpPr/>
          <p:nvPr/>
        </p:nvSpPr>
        <p:spPr>
          <a:xfrm>
            <a:off x="395280" y="4941720"/>
            <a:ext cx="77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By : Manuela , Alessandra C and Philip</a:t>
            </a:r>
            <a:endParaRPr b="0" lang="en-US" sz="3200" spc="-1" strike="noStrike">
              <a:solidFill>
                <a:srgbClr val="ffffff"/>
              </a:solidFill>
              <a:latin typeface="Arial"/>
            </a:endParaRPr>
          </a:p>
        </p:txBody>
      </p:sp>
      <p:sp>
        <p:nvSpPr>
          <p:cNvPr id="43" name=""/>
          <p:cNvSpPr txBox="1"/>
          <p:nvPr/>
        </p:nvSpPr>
        <p:spPr>
          <a:xfrm>
            <a:off x="684360" y="1484280"/>
            <a:ext cx="7464240" cy="24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Sans MS"/>
              </a:rPr>
              <a:t>Medieval methods of diagnosis</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Sans MS"/>
              <a:ea typeface="Comic Sans MS"/>
            </a:endParaRPr>
          </a:p>
        </p:txBody>
      </p:sp>
    </p:spTree>
  </p:cSld>
  <p:transition spd="med">
    <p:zoom dir="out"/>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1125360"/>
            <a:ext cx="7772400" cy="147024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dfd293"/>
                </a:solidFill>
                <a:latin typeface="Comic Sans MS"/>
              </a:rPr>
              <a:t>Light bulb questions</a:t>
            </a:r>
            <a:endParaRPr b="0" lang="en-US" sz="4400" spc="-1" strike="noStrike">
              <a:solidFill>
                <a:srgbClr val="dfd293"/>
              </a:solidFill>
              <a:latin typeface="Comic Sans MS"/>
            </a:endParaRPr>
          </a:p>
        </p:txBody>
      </p:sp>
      <p:sp>
        <p:nvSpPr>
          <p:cNvPr id="86" name="PlaceHolder 2"/>
          <p:cNvSpPr>
            <a:spLocks noGrp="1"/>
          </p:cNvSpPr>
          <p:nvPr>
            <p:ph type="subTitle"/>
          </p:nvPr>
        </p:nvSpPr>
        <p:spPr>
          <a:xfrm>
            <a:off x="1371600" y="3573000"/>
            <a:ext cx="6400800" cy="2065320"/>
          </a:xfrm>
          <a:prstGeom prst="rect">
            <a:avLst/>
          </a:prstGeom>
          <a:solidFill>
            <a:srgbClr val="80000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By:</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Stefano F and G and Gianni.P</a:t>
            </a:r>
            <a:endParaRPr b="0" lang="en-US" sz="3200" spc="-1" strike="noStrike">
              <a:solidFill>
                <a:srgbClr val="ffffff"/>
              </a:solidFill>
              <a:latin typeface="Comic Sans MS"/>
            </a:endParaRPr>
          </a:p>
        </p:txBody>
      </p:sp>
      <p:pic>
        <p:nvPicPr>
          <p:cNvPr id="87" name="" descr=""/>
          <p:cNvPicPr/>
          <p:nvPr/>
        </p:nvPicPr>
        <p:blipFill>
          <a:blip r:embed="rId1"/>
          <a:stretch/>
        </p:blipFill>
        <p:spPr>
          <a:xfrm>
            <a:off x="395280" y="836640"/>
            <a:ext cx="1541520" cy="2232000"/>
          </a:xfrm>
          <a:prstGeom prst="rect">
            <a:avLst/>
          </a:prstGeom>
          <a:ln w="0">
            <a:noFill/>
          </a:ln>
        </p:spPr>
      </p:pic>
    </p:spTree>
  </p:cSld>
  <p:transition spd="med">
    <p:zoom dir="out"/>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60"/>
            <a:ext cx="8229600" cy="609480"/>
          </a:xfrm>
          <a:prstGeom prst="rect">
            <a:avLst/>
          </a:prstGeom>
          <a:solidFill>
            <a:srgbClr val="80000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dfd293"/>
                </a:solidFill>
                <a:latin typeface="Times New Roman"/>
              </a:rPr>
              <a:t>Sources A,B,C and D</a:t>
            </a:r>
            <a:endParaRPr b="0" lang="en-US" sz="3200" spc="-1" strike="noStrike">
              <a:solidFill>
                <a:srgbClr val="dfd293"/>
              </a:solidFill>
              <a:latin typeface="Comic Sans MS"/>
            </a:endParaRPr>
          </a:p>
        </p:txBody>
      </p:sp>
      <p:sp>
        <p:nvSpPr>
          <p:cNvPr id="89" name="PlaceHolder 2"/>
          <p:cNvSpPr>
            <a:spLocks noGrp="1"/>
          </p:cNvSpPr>
          <p:nvPr>
            <p:ph/>
          </p:nvPr>
        </p:nvSpPr>
        <p:spPr>
          <a:xfrm>
            <a:off x="457200" y="456840"/>
            <a:ext cx="8229600" cy="5668920"/>
          </a:xfrm>
          <a:prstGeom prst="rect">
            <a:avLst/>
          </a:prstGeom>
          <a:solidFill>
            <a:srgbClr val="800000">
              <a:alpha val="80000"/>
            </a:srgbClr>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ightbulb Question: </a:t>
            </a:r>
            <a:endParaRPr b="0" lang="en-US" sz="2400" spc="-1" strike="noStrike">
              <a:solidFill>
                <a:srgbClr val="ffffff"/>
              </a:solidFill>
              <a:latin typeface="Comic Sans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Which of the sources A-D are based on common sense?Which are based on superstition</a:t>
            </a:r>
            <a:r>
              <a:rPr b="0" lang="it-IT" sz="2200" spc="-1" strike="noStrike">
                <a:solidFill>
                  <a:srgbClr val="ffffff"/>
                </a:solidFill>
                <a:latin typeface="Times New Roman"/>
              </a:rPr>
              <a:t>?</a:t>
            </a:r>
            <a:endParaRPr b="0" lang="en-US" sz="2200" spc="-1" strike="noStrike">
              <a:solidFill>
                <a:srgbClr val="ffffff"/>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ource A:</a:t>
            </a:r>
            <a:endParaRPr b="0" lang="en-US" sz="2400" spc="-1" strike="noStrike">
              <a:solidFill>
                <a:srgbClr val="ffffff"/>
              </a:solidFill>
              <a:latin typeface="Comic Sans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God is terrible towards the sons of men.....He often allows plagues, miserable famines, conflicts, wars and other forms of suffering to arise, and uses them to terrify and torment people to drive out their sins.. And so the people of England are oppressed by the plague.  </a:t>
            </a:r>
            <a:endParaRPr b="0" lang="en-US" sz="2200" spc="-1" strike="noStrike">
              <a:solidFill>
                <a:srgbClr val="ffffff"/>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ource B: </a:t>
            </a:r>
            <a:endParaRPr b="0" lang="en-US" sz="2400" spc="-1" strike="noStrike">
              <a:solidFill>
                <a:srgbClr val="ffffff"/>
              </a:solidFill>
              <a:latin typeface="Comic Sans MS"/>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The general cause of the plague was the close position of the three graty palanets Saturn, Jupiter and Mars. This had taken place in 1345 on 24 March.Such a coming together of planets is always a sign of wonderful, terrible or violent things to come. </a:t>
            </a:r>
            <a:endParaRPr b="0" lang="en-US" sz="2200" spc="-1" strike="noStrike">
              <a:solidFill>
                <a:srgbClr val="ffffff"/>
              </a:solidFill>
              <a:latin typeface="Comic Sans MS"/>
            </a:endParaRPr>
          </a:p>
        </p:txBody>
      </p:sp>
    </p:spTree>
  </p:cSld>
  <p:transition spd="med">
    <p:zoom dir="out"/>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228600"/>
            <a:ext cx="8229600" cy="5897520"/>
          </a:xfrm>
          <a:prstGeom prst="rect">
            <a:avLst/>
          </a:prstGeom>
          <a:solidFill>
            <a:srgbClr val="800000">
              <a:alpha val="80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ource C:</a:t>
            </a:r>
            <a:endParaRPr b="0" lang="en-US" sz="2400" spc="-1" strike="noStrike">
              <a:solidFill>
                <a:srgbClr val="ffffff"/>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Medieval doctors thought the body was made up of four humours- earth, fire, water and air. If these humours should get out of balance you fell ill. In the summer, the dry heat would increase the fire so you would sweat and get very hot-you might even become bad tempered. In winter, the damp climate would increse the water in your body. This would make you produce phlegm and suffer from coughs and colds.    </a:t>
            </a:r>
            <a:endParaRPr b="0" lang="en-US" sz="22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Source D:</a:t>
            </a:r>
            <a:endParaRPr b="0" lang="en-US" sz="2400" spc="-1" strike="noStrike">
              <a:solidFill>
                <a:srgbClr val="ffffff"/>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In the Middle Ages, people thought that worms were connected to illness.....When doctors examined the faeces of sick people they often saw worms.It seemed obvious to link these to whatever illness thwe person was suffering from. </a:t>
            </a:r>
            <a:endParaRPr b="0" lang="en-US" sz="22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nswer: </a:t>
            </a:r>
            <a:endParaRPr b="0" lang="en-US" sz="2400" spc="-1" strike="noStrike">
              <a:solidFill>
                <a:srgbClr val="ffffff"/>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Source A amd B are clearly superstitious, while Source C is a fascinating mix of supersition and common sense. Source D, however is completely based on common  sense.</a:t>
            </a:r>
            <a:endParaRPr b="0" lang="en-US" sz="2200" spc="-1" strike="noStrike">
              <a:solidFill>
                <a:srgbClr val="ffffff"/>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Tree>
  </p:cSld>
  <p:transition spd="med">
    <p:zoom dir="out"/>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dfd293"/>
                </a:solidFill>
                <a:latin typeface="Comic Sans MS"/>
              </a:rPr>
              <a:t>Source E</a:t>
            </a:r>
            <a:endParaRPr b="0" lang="en-US" sz="4400" spc="-1" strike="noStrike">
              <a:solidFill>
                <a:srgbClr val="dfd293"/>
              </a:solidFill>
              <a:latin typeface="Comic Sans MS"/>
            </a:endParaRPr>
          </a:p>
        </p:txBody>
      </p:sp>
      <p:sp>
        <p:nvSpPr>
          <p:cNvPr id="92" name="PlaceHolder 2"/>
          <p:cNvSpPr>
            <a:spLocks noGrp="1"/>
          </p:cNvSpPr>
          <p:nvPr>
            <p:ph/>
          </p:nvPr>
        </p:nvSpPr>
        <p:spPr>
          <a:xfrm>
            <a:off x="457200" y="1600200"/>
            <a:ext cx="4038480" cy="4525920"/>
          </a:xfrm>
          <a:prstGeom prst="rect">
            <a:avLst/>
          </a:prstGeom>
          <a:solidFill>
            <a:srgbClr val="80000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3" name="PlaceHolder 3"/>
          <p:cNvSpPr>
            <a:spLocks noGrp="1"/>
          </p:cNvSpPr>
          <p:nvPr>
            <p:ph/>
          </p:nvPr>
        </p:nvSpPr>
        <p:spPr>
          <a:xfrm>
            <a:off x="4648320" y="1600200"/>
            <a:ext cx="4038480" cy="4525920"/>
          </a:xfrm>
          <a:prstGeom prst="rect">
            <a:avLst/>
          </a:prstGeom>
          <a:solidFill>
            <a:srgbClr val="800000">
              <a:alpha val="80000"/>
            </a:srgbClr>
          </a:solidFill>
          <a:ln w="0">
            <a:noFill/>
          </a:ln>
        </p:spPr>
        <p:txBody>
          <a:bodyPr lIns="90000" rIns="90000" tIns="46800" bIns="46800"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 </a:t>
            </a:r>
            <a:r>
              <a:rPr b="1" lang="it-IT" sz="2200" spc="-1" strike="noStrike" u="sng">
                <a:solidFill>
                  <a:srgbClr val="ffffff"/>
                </a:solidFill>
                <a:uFillTx/>
                <a:latin typeface="Comic Sans MS"/>
              </a:rPr>
              <a:t>LIGHT BULB QUESTION 2:</a:t>
            </a:r>
            <a:endParaRPr b="0" lang="en-US" sz="2200" spc="-1" strike="noStrike">
              <a:solidFill>
                <a:srgbClr val="ffffff"/>
              </a:solidFill>
              <a:latin typeface="Comic Sans MS"/>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What can you learn about medieval examinations from source E?</a:t>
            </a:r>
            <a:endParaRPr b="0" lang="en-US" sz="2200" spc="-1" strike="noStrike">
              <a:solidFill>
                <a:srgbClr val="ffffff"/>
              </a:solidFill>
              <a:latin typeface="Comic Sans MS"/>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imes New Roman"/>
              </a:rPr>
              <a:t>Medieval medicine examinations were performed in the patients abitation and by more than one doctor or a doctor and his assistents. Medieval doctors examined there patients pulse and collected body fluids for further Examination.  </a:t>
            </a:r>
            <a:endParaRPr b="0" lang="en-US" sz="2200" spc="-1" strike="noStrike">
              <a:solidFill>
                <a:srgbClr val="ffffff"/>
              </a:solidFill>
              <a:latin typeface="Comic Sans MS"/>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pic>
        <p:nvPicPr>
          <p:cNvPr id="94" name="" descr=""/>
          <p:cNvPicPr/>
          <p:nvPr/>
        </p:nvPicPr>
        <p:blipFill>
          <a:blip r:embed="rId1"/>
          <a:stretch/>
        </p:blipFill>
        <p:spPr>
          <a:xfrm>
            <a:off x="179280" y="1484280"/>
            <a:ext cx="4321440" cy="4681440"/>
          </a:xfrm>
          <a:prstGeom prst="rect">
            <a:avLst/>
          </a:prstGeom>
          <a:ln w="0">
            <a:noFill/>
          </a:ln>
        </p:spPr>
      </p:pic>
    </p:spTree>
  </p:cSld>
  <p:transition spd="med">
    <p:zoom dir="out"/>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dfd293"/>
                </a:solidFill>
                <a:latin typeface="Comic Sans MS"/>
              </a:rPr>
              <a:t>DISSECTION OF CORPSES</a:t>
            </a:r>
            <a:endParaRPr b="0" lang="en-US" sz="4400" spc="-1" strike="noStrike">
              <a:solidFill>
                <a:srgbClr val="dfd293"/>
              </a:solidFill>
              <a:latin typeface="Comic Sans MS"/>
            </a:endParaRPr>
          </a:p>
        </p:txBody>
      </p:sp>
      <p:sp>
        <p:nvSpPr>
          <p:cNvPr id="96" name="PlaceHolder 2"/>
          <p:cNvSpPr>
            <a:spLocks noGrp="1"/>
          </p:cNvSpPr>
          <p:nvPr>
            <p:ph/>
          </p:nvPr>
        </p:nvSpPr>
        <p:spPr>
          <a:xfrm>
            <a:off x="4648320" y="1600200"/>
            <a:ext cx="4038480" cy="4525920"/>
          </a:xfrm>
          <a:prstGeom prst="rect">
            <a:avLst/>
          </a:prstGeom>
          <a:solidFill>
            <a:srgbClr val="800000"/>
          </a:solid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ffff"/>
                </a:solidFill>
                <a:uFillTx/>
                <a:latin typeface="Comic Sans MS"/>
              </a:rPr>
              <a:t>LIGHT BULB QUESTION 3:</a:t>
            </a:r>
            <a:endParaRPr b="0" lang="en-US" sz="2200" spc="-1" strike="noStrike">
              <a:solidFill>
                <a:srgbClr val="ffffff"/>
              </a:solidFill>
              <a:latin typeface="Comic Sans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Why do you think the church was against dissection of corpses?</a:t>
            </a:r>
            <a:endParaRPr b="0" lang="en-US" sz="2200" spc="-1" strike="noStrike">
              <a:solidFill>
                <a:srgbClr val="ffffff"/>
              </a:solidFill>
              <a:latin typeface="Comic Sans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We think that the church was against dissection because the church believed that every person had the right to have their body rest in paece. </a:t>
            </a:r>
            <a:endParaRPr b="0" lang="en-US" sz="2200" spc="-1" strike="noStrike">
              <a:solidFill>
                <a:srgbClr val="ffffff"/>
              </a:solidFill>
              <a:latin typeface="Comic Sans MS"/>
            </a:endParaRPr>
          </a:p>
        </p:txBody>
      </p:sp>
      <p:pic>
        <p:nvPicPr>
          <p:cNvPr id="97" name="" descr=""/>
          <p:cNvPicPr/>
          <p:nvPr/>
        </p:nvPicPr>
        <p:blipFill>
          <a:blip r:embed="rId1">
            <a:alphaModFix amt="80000"/>
          </a:blip>
          <a:stretch/>
        </p:blipFill>
        <p:spPr>
          <a:xfrm>
            <a:off x="990720" y="1600200"/>
            <a:ext cx="2970000" cy="4525920"/>
          </a:xfrm>
          <a:prstGeom prst="rect">
            <a:avLst/>
          </a:prstGeom>
          <a:ln w="0">
            <a:noFill/>
          </a:ln>
        </p:spPr>
      </p:pic>
    </p:spTree>
  </p:cSld>
  <p:transition spd="med">
    <p:zoom dir="out"/>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dfd293"/>
                </a:solidFill>
                <a:latin typeface="Comic Sans MS"/>
              </a:rPr>
              <a:t>Utility of Corpse Study in the Middle Ages</a:t>
            </a:r>
            <a:endParaRPr b="0" lang="en-US" sz="4000" spc="-1" strike="noStrike">
              <a:solidFill>
                <a:srgbClr val="dfd293"/>
              </a:solidFill>
              <a:latin typeface="Comic Sans MS"/>
            </a:endParaRPr>
          </a:p>
        </p:txBody>
      </p:sp>
      <p:sp>
        <p:nvSpPr>
          <p:cNvPr id="99" name="PlaceHolder 2"/>
          <p:cNvSpPr>
            <a:spLocks noGrp="1"/>
          </p:cNvSpPr>
          <p:nvPr>
            <p:ph/>
          </p:nvPr>
        </p:nvSpPr>
        <p:spPr>
          <a:xfrm>
            <a:off x="4643280" y="1600200"/>
            <a:ext cx="4043520" cy="4525920"/>
          </a:xfrm>
          <a:prstGeom prst="rect">
            <a:avLst/>
          </a:prstGeom>
          <a:solidFill>
            <a:srgbClr val="80000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I think that the study of bodies in the Middle Ages provided much-needed information about the human body.</a:t>
            </a:r>
            <a:endParaRPr b="0" lang="en-US" sz="2800" spc="-1" strike="noStrike">
              <a:solidFill>
                <a:srgbClr val="ffffff"/>
              </a:solidFill>
              <a:latin typeface="Comic Sans MS"/>
            </a:endParaRPr>
          </a:p>
        </p:txBody>
      </p:sp>
      <p:pic>
        <p:nvPicPr>
          <p:cNvPr id="100" name="" descr=""/>
          <p:cNvPicPr/>
          <p:nvPr/>
        </p:nvPicPr>
        <p:blipFill>
          <a:blip r:embed="rId1"/>
          <a:stretch/>
        </p:blipFill>
        <p:spPr>
          <a:xfrm>
            <a:off x="324000" y="1484280"/>
            <a:ext cx="4319280" cy="4896000"/>
          </a:xfrm>
          <a:prstGeom prst="rect">
            <a:avLst/>
          </a:prstGeom>
          <a:ln w="0">
            <a:noFill/>
          </a:ln>
        </p:spPr>
      </p:pic>
    </p:spTree>
  </p:cSld>
  <p:transition spd="med">
    <p:zoom dir="ou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dfd293"/>
                </a:solidFill>
                <a:latin typeface="Comic Sans MS"/>
              </a:rPr>
              <a:t>Medieval diagnosis</a:t>
            </a:r>
            <a:endParaRPr b="0" lang="en-US" sz="4400" spc="-1" strike="noStrike">
              <a:solidFill>
                <a:srgbClr val="dfd293"/>
              </a:solidFill>
              <a:latin typeface="Comic Sans MS"/>
            </a:endParaRPr>
          </a:p>
        </p:txBody>
      </p:sp>
      <p:sp>
        <p:nvSpPr>
          <p:cNvPr id="45"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Doctors used to take the pulse of the patient.</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They also took a urine sample, if the urine sample was dark it meant that she/he had  a serious desease, instead if the urine sample was clear it meant that the patient wasn’t ill.</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46" name="" descr=""/>
          <p:cNvPicPr/>
          <p:nvPr/>
        </p:nvPicPr>
        <p:blipFill>
          <a:blip r:embed="rId1"/>
          <a:stretch/>
        </p:blipFill>
        <p:spPr>
          <a:xfrm>
            <a:off x="6372360" y="4653000"/>
            <a:ext cx="1501560" cy="1557360"/>
          </a:xfrm>
          <a:prstGeom prst="rect">
            <a:avLst/>
          </a:prstGeom>
          <a:ln w="0">
            <a:noFill/>
          </a:ln>
        </p:spPr>
      </p:pic>
    </p:spTree>
  </p:cSld>
  <p:transition spd="med">
    <p:zoom dir="out"/>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dfd293"/>
                </a:solidFill>
                <a:latin typeface="Comic Sans MS"/>
              </a:rPr>
              <a:t>Doctors</a:t>
            </a:r>
            <a:endParaRPr b="0" lang="en-US" sz="4400" spc="-1" strike="noStrike">
              <a:solidFill>
                <a:srgbClr val="dfd293"/>
              </a:solidFill>
              <a:latin typeface="Comic Sans MS"/>
            </a:endParaRPr>
          </a:p>
        </p:txBody>
      </p:sp>
      <p:sp>
        <p:nvSpPr>
          <p:cNvPr id="48"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Doctors used to study astronomy, arithmetic and music.</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They used arithmetics so they could count the number of hours a patient had been in pain, they studied music because people thought that it helped the patient and the studied astronomy because people belived that it help understanding the couses of the deasies.  </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Doctors studied on books. </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They knew very well Greek and Latin.  </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They used very different methods from what we use today.  </a:t>
            </a:r>
            <a:endParaRPr b="0" lang="en-US" sz="2400" spc="-1" strike="noStrike">
              <a:solidFill>
                <a:srgbClr val="ffffff"/>
              </a:solidFill>
              <a:latin typeface="Comic Sans MS"/>
            </a:endParaRPr>
          </a:p>
        </p:txBody>
      </p:sp>
      <p:pic>
        <p:nvPicPr>
          <p:cNvPr id="49" name="" descr=""/>
          <p:cNvPicPr/>
          <p:nvPr/>
        </p:nvPicPr>
        <p:blipFill>
          <a:blip r:embed="rId1"/>
          <a:stretch/>
        </p:blipFill>
        <p:spPr>
          <a:xfrm>
            <a:off x="179280" y="189000"/>
            <a:ext cx="1440000" cy="1434960"/>
          </a:xfrm>
          <a:prstGeom prst="rect">
            <a:avLst/>
          </a:prstGeom>
          <a:ln w="0">
            <a:noFill/>
          </a:ln>
        </p:spPr>
      </p:pic>
      <p:pic>
        <p:nvPicPr>
          <p:cNvPr id="50" name="" descr=""/>
          <p:cNvPicPr/>
          <p:nvPr/>
        </p:nvPicPr>
        <p:blipFill>
          <a:blip r:embed="rId2"/>
          <a:stretch/>
        </p:blipFill>
        <p:spPr>
          <a:xfrm>
            <a:off x="7164360" y="0"/>
            <a:ext cx="1584360" cy="1584360"/>
          </a:xfrm>
          <a:prstGeom prst="rect">
            <a:avLst/>
          </a:prstGeom>
          <a:ln w="0">
            <a:noFill/>
          </a:ln>
        </p:spPr>
      </p:pic>
    </p:spTree>
  </p:cSld>
  <p:transition spd="med">
    <p:zoom dir="out"/>
    <p:sndAc>
      <p:stSnd>
        <p:snd r:embed="rId3"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Causes of disease in the middle ages</a:t>
            </a:r>
            <a:endParaRPr b="0" lang="en-US" sz="4400" spc="-1" strike="noStrike">
              <a:solidFill>
                <a:srgbClr val="dfd293"/>
              </a:solidFill>
              <a:latin typeface="Comic Sans MS"/>
            </a:endParaRPr>
          </a:p>
        </p:txBody>
      </p:sp>
      <p:sp>
        <p:nvSpPr>
          <p:cNvPr id="52" name="PlaceHolder 2"/>
          <p:cNvSpPr>
            <a:spLocks noGrp="1"/>
          </p:cNvSpPr>
          <p:nvPr>
            <p:ph type="subTitle"/>
          </p:nvPr>
        </p:nvSpPr>
        <p:spPr>
          <a:xfrm>
            <a:off x="1371600" y="3886200"/>
            <a:ext cx="6400800" cy="1752480"/>
          </a:xfrm>
          <a:prstGeom prst="rect">
            <a:avLst/>
          </a:prstGeom>
          <a:solidFill>
            <a:srgbClr val="80000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y: Marco, Andrea and Rebecca 7l</a:t>
            </a:r>
            <a:endParaRPr b="0" lang="en-US" sz="3200" spc="-1" strike="noStrike">
              <a:solidFill>
                <a:srgbClr val="ffffff"/>
              </a:solidFill>
              <a:latin typeface="Comic Sans MS"/>
            </a:endParaRPr>
          </a:p>
        </p:txBody>
      </p:sp>
    </p:spTree>
  </p:cSld>
  <p:transition spd="med">
    <p:zoom dir="out"/>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4.44444E-006 0.00024 C 0.00642 0.02476 0.02534 0.03239 0.04236 0.03748 C 0.05642 0.04211 0.07031 0.04604 0.08472 0.04859 C 0.09809 0.04812 0.11145 0.04859 0.12465 0.0472 C 0.12743 0.04697 0.13316 0.04026 0.13645 0.0391 C 0.14062 0.02962 0.14305 0.02314 0.14583 0.01273 C 0.15225 -0.03723 0.14722 -0.09715 0.12465 -0.13971 C 0.12066 -0.1559 0.12517 -0.14272 0.11649 -0.1566 C 0.10694 -0.17233 0.12013 -0.15613 0.10694 -0.17394 C 0.09062 -0.19615 0.06857 -0.20887 0.04583 -0.21142 C 0.02968 -0.21049 0.01354 -0.21026 -0.00243 -0.20841 C -0.00643 -0.20818 -0.00955 -0.20355 -0.01303 -0.20078 C -0.02518 -0.19129 -0.03108 -0.18135 -0.03889 -0.16608 C -0.04237 -0.14341 -0.03785 -0.13647 -0.02726 -0.12074 C -0.00782 -0.09159 0.01909 -0.08327 0.04704 -0.07656 C 0.0809 -0.07864 0.09704 -0.07401 0.12343 -0.09067 C 0.12916 -0.09437 0.13559 -0.09807 0.13993 -0.10478 C 0.14427 -0.11172 0.15173 -0.12699 0.15173 -0.12699 C 0.1651 -0.21049 0.12048 -0.27781 0.06354 -0.30233 C 0.04878 -0.3088 0.03298 -0.30834 0.01753 -0.31019 C -0.01719 -0.3088 -0.05122 -0.30533 -0.08594 -0.30395 C -0.08785 -0.30302 -0.09011 -0.30233 -0.09184 -0.30094 C -0.09323 -0.30001 -0.09393 -0.29724 -0.09549 -0.29631 C -0.09757 -0.29469 -0.10035 -0.29469 -0.10243 -0.29307 C -0.11007 -0.28891 -0.1066 -0.28937 -0.11181 -0.28359 C -0.11528 -0.27989 -0.11893 -0.27642 -0.1224 -0.27272 C -0.12553 -0.26948 -0.12969 -0.26 -0.12969 -0.26 C -0.13125 -0.25375 -0.13386 -0.24889 -0.13542 -0.24288 C -0.13681 -0.2209 -0.13941 -0.19893 -0.13646 -0.17718 C -0.13577 -0.1714 -0.13247 -0.16654 -0.13056 -0.16122 C -0.12032 -0.13439 -0.09879 -0.1249 -0.07778 -0.12236 C -0.05625 -0.12444 -0.04202 -0.12282 -0.02362 -0.13184 C -0.01928 -0.13393 -0.01459 -0.13601 -0.01059 -0.13971 C -0.004 -0.14503 0.00816 -0.15821 0.00816 -0.15821 C 0.01475 -0.17233 0.01753 -0.18297 0.01996 -0.19893 C 0.01875 -0.21049 0.0184 -0.22206 0.01649 -0.23339 C 0.0125 -0.25722 -0.00521 -0.28683 -0.01303 -0.30233 C -0.04219 -0.36108 -0.08282 -0.40318 -0.13056 -0.43256 C -0.1566 -0.44852 -0.18039 -0.46217 -0.20938 -0.46541 C -0.22431 -0.46425 -0.23924 -0.46379 -0.25417 -0.46217 C -0.27691 -0.45963 -0.29914 -0.43834 -0.31771 -0.42308 C -0.32917 -0.41359 -0.34219 -0.4048 -0.3507 -0.39023 C -0.35643 -0.38098 -0.35816 -0.36825 -0.36129 -0.35715 C -0.36337 -0.33957 -0.36563 -0.31852 -0.36233 -0.30094 C -0.35921 -0.28452 -0.35053 -0.27133 -0.34115 -0.26161 C -0.31528 -0.23501 -0.33716 -0.25259 -0.31059 -0.23339 C -0.30747 -0.23108 -0.30348 -0.23177 -0.3 -0.23062 C -0.28299 -0.22368 -0.26719 -0.21882 -0.24948 -0.21628 C -0.23768 -0.21674 -0.22587 -0.21628 -0.21424 -0.21766 C -0.19462 -0.21975 -0.18646 -0.24427 -0.17761 -0.26323 C -0.17605 -0.28151 -0.17466 -0.29284 -0.17761 -0.31181 C -0.18334 -0.34905 -0.20764 -0.38144 -0.22483 -0.40897 C -0.24323 -0.43858 -0.26546 -0.45893 -0.2882 -0.48114 C -0.33108 -0.52301 -0.36146 -0.54198 -0.41424 -0.54845 C -0.43525 -0.54706 -0.45573 -0.54498 -0.47657 -0.54221 C -0.48629 -0.53943 -0.49618 -0.53712 -0.50591 -0.53434 C -0.53056 -0.51792 -0.53646 -0.49317 -0.54132 -0.45754 C -0.54514 -0.39277 -0.54966 -0.32824 -0.55296 -0.26323 C -0.55139 -0.21882 -0.5474 -0.17302 -0.53421 -0.13184 C -0.51233 -0.06222 -0.45452 -0.00901 -0.4 0.00163 C -0.38004 -0.00045 -0.35973 0.00024 -0.34011 -0.00462 C -0.26719 -0.02266 -0.1849 -0.08211 -0.16372 -0.18181 C -0.16059 -0.23918 -0.175 -0.28128 -0.1941 -0.33055 C -0.23542 -0.43672 -0.30487 -0.55447 -0.39653 -0.58454 C -0.41181 -0.58361 -0.42709 -0.58384 -0.44254 -0.58153 C -0.45747 -0.57922 -0.45851 -0.57413 -0.47066 -0.5658 C -0.50955 -0.53874 -0.53351 -0.50843 -0.54705 -0.45292 C -0.55469 -0.38306 -0.54983 -0.28382 -0.53056 -0.21466 C -0.52136 -0.18135 -0.52605 -0.17394 -0.50834 -0.15983 C -0.48351 -0.11172 -0.44844 -0.06892 -0.40469 -0.05319 C -0.39428 -0.04949 -0.38351 -0.04857 -0.37292 -0.04533 C -0.3632 -0.04649 -0.3533 -0.04672 -0.34358 -0.04857 C -0.31059 -0.05481 -0.29723 -0.09298 -0.29063 -0.13184 C -0.29184 -0.14966 -0.29202 -0.16724 -0.2941 -0.18505 C -0.29566 -0.19893 -0.31511 -0.24403 -0.31528 -0.2445 C -0.32448 -0.26832 -0.34237 -0.28452 -0.35886 -0.2977 C -0.39844 -0.32962 -0.44011 -0.34952 -0.48594 -0.35276 C -0.53316 -0.36085 -0.58056 -0.36224 -0.62709 -0.3479 C -0.63021 -0.34535 -0.63421 -0.34397 -0.63646 -0.34003 C -0.63768 -0.33795 -0.63143 -0.3442 -0.63056 -0.34165 C -0.62969 -0.33911 -0.63386 -0.33841 -0.63542 -0.33679 C -0.64601 -0.31227 -0.63837 -0.33332 -0.64358 -0.28197 C -0.64514 -0.26647 -0.64844 -0.25121 -0.64948 -0.23501 C -0.65035 -0.2209 -0.65087 -0.20679 -0.65174 -0.19291 C -0.65209 -0.18597 -0.65296 -0.17233 -0.65296 -0.17233 C -0.65122 -0.14017 -0.65122 -0.11542 -0.63768 -0.08766 C -0.62275 -0.05713 -0.60139 -0.04834 -0.57761 -0.03469 C -0.53837 -0.01156 -0.52553 -0.0067 -0.48247 -0.00462 C -0.44966 -0.00647 -0.42032 -0.00994 -0.3882 -0.01572 C -0.37761 -0.01988 -0.37188 -0.0215 -0.36598 -0.03469 C -0.36389 -0.05019 -0.36737 -0.05898 -0.37535 -0.07031 C -0.39549 -0.099 -0.42362 -0.10409 -0.45174 -0.1064 C -0.49809 -0.10501 -0.51059 -0.10409 -0.5507 -0.08604 C -0.56771 -0.068 -0.57743 -0.05019 -0.58594 -0.02335 C -0.58507 -0.01202 -0.58577 5.10524999999991E-006 -0.58351 0.01111 C -0.5823 0.01736 -0.57848 0.02175 -0.57535 0.02684 C -0.55591 0.05761 -0.52934 0.06131 -0.50122 0.06432 C -0.44566 0.06085 -0.39375 0.06848 -0.34237 0.04558 C -0.33438 0.03494 -0.33056 0.02754 -0.3283 0.01273 C -0.32987 0.00811 -0.33091 0.00278 -0.33299 -0.00138 C -0.33698 -0.00994 -0.35035 -0.00994 -0.3566 -0.01086 C -0.3757 -0.00693 -0.38368 -0.00624 -0.39792 0.00949 C -0.40087 0.01921 -0.40313 0.02476 -0.40365 0.0361 C -0.40556 0.0812 -0.36424 0.09346 -0.33889 0.09554 C -0.28993 0.0886 -0.23455 0.09184 -0.21181 0.02337 C -0.21216 0.01597 -0.21129 0.00857 -0.21303 0.00163 C -0.21858 -0.01965 -0.23716 -0.01896 -0.2507 -0.02035 C -0.27657 -0.01618 -0.30174 -0.00901 -0.32709 -0.00138 C -0.34653 0.01643 -0.34966 0.0206 -0.35764 0.05021 C -0.35487 0.06385 -0.35452 0.07866 -0.34948 0.09092 C -0.33299 0.1314 -0.26632 0.13024 -0.23889 0.13348 C -0.16737 0.12885 -0.12327 0.13371 -0.06355 0.09092 C -0.05834 0.07565 -0.06337 0.07866 -0.07535 0.07981 C -0.08941 0.0812 -0.10365 0.0819 -0.11771 0.08328 C -0.14254 0.09138 -0.16945 0.09346 -0.18941 0.11613 C -0.18993 0.11937 -0.19202 0.12839 -0.18941 0.13186 C -0.1882 0.13371 -0.18542 0.13256 -0.18351 0.13348 C -0.16216 0.14042 -0.17917 0.13626 -0.15556 0.14088 C -0.11528 0.13418 -0.09358 0.1388 -0.06476 0.10827 C -0.06233 0.09878 -0.06511 0.09716 -0.07066 0.09092 C -0.05764 0.0738 -0.03681 0.08907 -0.01997 0.08167 C -0.01928 0.07611 -0.01771 0.05876 -0.01528 0.05506 C -0.01285 0.0509 -0.00712 0.04396 -0.00712 0.04396 C -0.00625 0.0398 -0.00487 0.03586 -0.00469 0.03124 C -0.00434 0.02152 -0.00504 0.01111 -0.00365 0.00163 C -0.00348 5.10524999999991E-006 4.44444E-006 0.00024 4.44444E-006 0.00024 Z">
                                      <p:cBhvr>
                                        <p:cTn id="6" dur="2000" fill="hold"/>
                                        <p:tgtEl>
                                          <p:spTgt spid="5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0 0 C 0.0059 0.00162 0.00972 0.00393 0.01424 0.00948 C 0.0184 0.01434 0.02604 0.02521 0.02604 0.02521 C 0.02517 0.02683 0.02344 0.02776 0.02361 0.02984 C 0.02431 0.03747 0.02743 0.03724 0.03073 0.04094 C 0.03524 0.04603 0.0375 0.05205 0.04236 0.05621 C 0.04601 0.06407 0.04705 0.06963 0.05191 0.07657 C 0.05451 0.0805 0.06007 0.0879 0.06007 0.0879 C 0.06285 0.09692 0.06181 0.09577 0.06719 0.10363 C 0.06944 0.10664 0.07413 0.11288 0.07413 0.11288 C 0.07378 0.11473 0.07292 0.11705 0.07309 0.1189 C 0.07378 0.12607 0.07986 0.13 0.08368 0.13463 C 0.08906 0.14203 0.09201 0.15082 0.09896 0.15522 C 0.10538 0.16886 0.0967 0.15267 0.10486 0.16146 C 0.10903 0.16586 0.11128 0.17256 0.11545 0.17696 C 0.11997 0.18182 0.1283 0.18482 0.1342 0.18667 C 0.1401 0.1913 0.14288 0.19269 0.14948 0.19431 C 0.15417 0.19361 0.1599 0.19523 0.16354 0.1913 C 0.16615 0.18853 0.16667 0.18297 0.16944 0.1802 C 0.17587 0.17418 0.18507 0.17187 0.19184 0.16632 C 0.19757 0.16146 0.20434 0.15637 0.20955 0.15059 C 0.21372 0.14573 0.21615 0.13972 0.22014 0.13463 C 0.22049 0.13278 0.22049 0.13046 0.22118 0.12861 C 0.2224 0.12514 0.22604 0.1189 0.22604 0.1189 C 0.22743 0.11335 0.22813 0.10872 0.23073 0.10363 C 0.22951 0.10317 0.22656 0.10363 0.22708 0.10178 C 0.22778 0.09993 0.23021 0.10109 0.23177 0.10039 C 0.24288 0.09484 0.2283 0.09854 0.24601 0.09577 C 0.24844 0.0768 0.25938 0.06292 0.26476 0.04557 C 0.27101 0.02544 0.27535 0.00578 0.27882 -0.0155 C 0.27847 -0.04719 0.27847 -0.07819 0.27778 -0.10988 C 0.2776 -0.11936 0.27413 -0.12838 0.27309 -0.13787 C 0.27049 -0.16193 0.2691 -0.18621 0.26597 -0.21004 C 0.2651 -0.22785 0.26424 -0.23942 0.26007 -0.25538 C 0.25833 -0.26209 0.2559 -0.26741 0.25417 -0.27435 C 0.25382 -0.27597 0.25295 -0.27921 0.25295 -0.27921 C 0.25156 -0.29332 0.24896 -0.30789 0.24601 -0.32131 C 0.24288 -0.35392 0.24653 -0.3139 0.24358 -0.38261 C 0.24323 -0.38955 0.24132 -0.39487 0.2401 -0.40134 C 0.23698 -0.41777 0.23455 -0.43465 0.23299 -0.45131 C 0.23212 -0.51515 0.23733 -0.52579 0.22361 -0.56905 C 0.22135 -0.58686 0.21406 -0.60514 0.20712 -0.62087 C 0.19878 -0.63937 0.19184 -0.65903 0.18247 -0.67708 C 0.17483 -0.69142 0.1717 -0.70715 0.15764 -0.71316 C 0.10642 -0.70137 0.05104 -0.71987 0.00122 -0.69466 C -0.00799 -0.69489 -0.02795 -0.69489 -0.03993 -0.69743 C -0.04965 -0.69975 -0.05851 -0.70715 -0.06823 -0.70992 C -0.07431 -0.71409 -0.07795 -0.71756 -0.08455 -0.71941 C -0.09566 -0.72704 -0.10781 -0.73144 -0.11997 -0.73352 C -0.12951 -0.73907 -0.14028 -0.73861 -0.15052 -0.73977 C -0.17014 -0.74231 -0.18976 -0.74485 -0.20937 -0.74601 C -0.23316 -0.74509 -0.2408 -0.74347 -0.2599 -0.73977 C -0.26892 -0.73514 -0.27743 -0.73352 -0.28698 -0.7319 C -0.31285 -0.72265 -0.33872 -0.7282 -0.3658 -0.72912 C -0.38142 -0.73352 -0.39705 -0.73606 -0.41285 -0.73977 C -0.42413 -0.74231 -0.43455 -0.74832 -0.44583 -0.75087 C -0.45052 -0.75041 -0.45538 -0.75087 -0.4599 -0.74925 C -0.46163 -0.74856 -0.46215 -0.74578 -0.46354 -0.74439 C -0.47066 -0.73699 -0.47795 -0.72912 -0.48576 -0.72288 C -0.4974 -0.71363 -0.50868 -0.70738 -0.52118 -0.7009 C -0.56128 -0.70183 -0.56684 -0.7016 -0.59635 -0.70854 C -0.60451 -0.71525 -0.61528 -0.71617 -0.62465 -0.71802 C -0.63021 -0.71686 -0.63576 -0.71686 -0.64115 -0.71478 C -0.64601 -0.71293 -0.64687 -0.7016 -0.64809 -0.69581 C -0.64774 -0.67661 -0.64844 -0.65741 -0.64705 -0.63822 C -0.64583 -0.62133 -0.64045 -0.60837 -0.63524 -0.59403 C -0.62986 -0.57923 -0.62622 -0.56373 -0.61875 -0.55031 C -0.60833 -0.53158 -0.59687 -0.5133 -0.58576 -0.49526 C -0.57743 -0.48207 -0.56892 -0.47467 -0.56458 -0.45755 C -0.56701 -0.44529 -0.57083 -0.44622 -0.5776 -0.4372 C -0.58854 -0.42262 -0.60139 -0.41268 -0.61406 -0.40134 C -0.61649 -0.39903 -0.61788 -0.3951 -0.61997 -0.39186 C -0.62865 -0.37914 -0.63455 -0.36456 -0.64236 -0.35138 C -0.64531 -0.3412 -0.64913 -0.33148 -0.65174 -0.32131 C -0.65417 -0.30234 -0.6526 -0.30974 -0.65521 -0.29956 C -0.65469 -0.28568 -0.65677 -0.26787 -0.65052 -0.25538 C -0.64844 -0.24474 -0.64549 -0.23479 -0.6434 -0.22415 C -0.64375 -0.21952 -0.64375 -0.21467 -0.64462 -0.21004 C -0.64583 -0.20356 -0.64948 -0.19871 -0.65174 -0.19292 C -0.65521 -0.18321 -0.65868 -0.17395 -0.66233 -0.16447 C -0.66372 -0.15337 -0.66823 -0.14666 -0.6717 -0.13625 C -0.67812 -0.11751 -0.67222 -0.12954 -0.6776 -0.11913 C -0.67934 -0.11242 -0.67986 -0.10641 -0.68229 -0.10016 C -0.68646 -0.0731 -0.66458 -0.05135 -0.64931 -0.03748 C -0.64618 -0.02568 -0.66059 -0.01041 -0.66458 0 C -0.67083 0.01619 -0.68108 0.02845 -0.68819 0.04372 C -0.69514 0.05899 -0.69965 0.07703 -0.70347 0.09392 C -0.70226 0.10456 -0.70191 0.11497 -0.7 0.12537 C -0.69792 0.13602 -0.68021 0.14296 -0.67396 0.14411 C -0.66424 0.14758 -0.65503 0.14943 -0.64583 0.15522 C -0.64323 0.1603 -0.64149 0.17071 -0.6375 0.17418 C -0.62726 0.18321 -0.6434 0.16817 -0.62934 0.18482 C -0.62448 0.19084 -0.61562 0.19824 -0.60937 0.2024 C -0.59062 0.2149 -0.57153 0.22276 -0.55052 0.22577 C -0.53455 0.23063 -0.51858 0.23317 -0.50226 0.23525 C -0.49566 0.23849 -0.49462 0.23918 -0.48941 0.2415 C -0.48698 0.24265 -0.48229 0.24474 -0.48229 0.24474 C -0.45486 0.24265 -0.42569 0.24289 -0.39878 0.23363 C -0.39792 0.23109 -0.39774 0.22785 -0.39635 0.22577 C -0.39253 0.21999 -0.38299 0.22091 -0.3776 0.21952 C -0.36094 0.2149 -0.35 0.21721 -0.32934 0.21652 C -0.325 0.21605 -0.32049 0.21628 -0.31632 0.2149 C -0.31302 0.21374 -0.31007 0.21073 -0.30694 0.20865 C -0.30208 0.20541 -0.29184 0.20472 -0.28698 0.20379 C -0.27483 0.19755 -0.2625 0.19246 -0.25052 0.18482 C -0.24601 0.18228 -0.24219 0.17765 -0.2375 0.17557 C -0.21406 0.16424 -0.17847 0.16724 -0.15399 0.16447 C -0.14878 0.15961 -0.14306 0.15892 -0.1375 0.15522 C -0.1276 0.14828 -0.10868 0.13602 -0.1 0.12676 C -0.09288 0.11913 -0.08559 0.10132 -0.0776 0.09854 C -0.07031 0.09276 -0.07517 0.09669 -0.06233 0.0879 C -0.05816 0.08489 -0.05434 0.08166 -0.05052 0.07842 C -0.04913 0.07703 -0.04844 0.07495 -0.04705 0.07356 C -0.04566 0.07263 -0.03906 0.07009 -0.03646 0.06893 C -0.03333 0.06315 -0.03056 0.06246 -0.02691 0.05621 C -0.02292 0.03909 -0.00538 0.02637 0.00712 0.02197 C 0.0033 0.0185 -0.00035 0.01596 -0.00469 0.01411 C -0.00208 0.01203 0.00955 0.00046 0.00955 -0.00301 E">
                                      <p:cBhvr>
                                        <p:cTn id="10" dur="2000" fill="hold"/>
                                        <p:tgtEl>
                                          <p:spTgt spid="5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Introduction</a:t>
            </a:r>
            <a:endParaRPr b="0" lang="en-US" sz="4400" spc="-1" strike="noStrike">
              <a:solidFill>
                <a:srgbClr val="dfd293"/>
              </a:solidFill>
              <a:latin typeface="Comic Sans MS"/>
            </a:endParaRPr>
          </a:p>
        </p:txBody>
      </p:sp>
      <p:sp>
        <p:nvSpPr>
          <p:cNvPr id="54"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ur group will explain what doctors thought about diseases in the middle age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re will be 3 slides that will tell what doctors considered about illnesses, then there will be a final slide with a conclusion of what we think about the thoughts of people in the middle ages. </a:t>
            </a:r>
            <a:endParaRPr b="0" lang="en-US" sz="1800" spc="-1" strike="noStrike">
              <a:solidFill>
                <a:srgbClr val="ffffff"/>
              </a:solidFill>
              <a:latin typeface="Comic Sans MS"/>
            </a:endParaRPr>
          </a:p>
        </p:txBody>
      </p:sp>
    </p:spTree>
  </p:cSld>
  <p:transition spd="med">
    <p:zoom dir="out"/>
    <p:sndAc>
      <p:stSnd>
        <p:snd r:embed="rId1" name="camera.wav"/>
      </p:stSnd>
    </p:sndAc>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2">
                                  <p:stCondLst>
                                    <p:cond delay="0"/>
                                  </p:stCondLst>
                                  <p:childTnLst>
                                    <p:set>
                                      <p:cBhvr>
                                        <p:cTn id="16" dur="indefinite"/>
                                        <p:tgtEl>
                                          <p:spTgt spid="53"/>
                                        </p:tgtEl>
                                        <p:attrNameLst>
                                          <p:attrName>style.fontFamily</p:attrName>
                                        </p:attrNameLst>
                                      </p:cBhvr>
                                      <p:to>
                                        <p:strVal val="TRENDY"/>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The origins of diseases</a:t>
            </a:r>
            <a:endParaRPr b="0" lang="en-US" sz="4400" spc="-1" strike="noStrike">
              <a:solidFill>
                <a:srgbClr val="dfd293"/>
              </a:solidFill>
              <a:latin typeface="Comic Sans MS"/>
            </a:endParaRPr>
          </a:p>
        </p:txBody>
      </p:sp>
      <p:sp>
        <p:nvSpPr>
          <p:cNvPr id="56"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ctors didn’t know the causes of the diseases so they thought that god sended the illness for punishment because they had no knowledge about germ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fter doctors said that worms were in the body and caused the sicknes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eople said that the human body was made up of four humors: earth, Fire, Water and air and when the elements broke you became ill. </a:t>
            </a:r>
            <a:endParaRPr b="0" lang="en-US" sz="1800" spc="-1" strike="noStrike">
              <a:solidFill>
                <a:srgbClr val="ffffff"/>
              </a:solidFill>
              <a:latin typeface="Comic Sans MS"/>
            </a:endParaRPr>
          </a:p>
        </p:txBody>
      </p:sp>
    </p:spTree>
  </p:cSld>
  <p:transition spd="med">
    <p:zoom dir="out"/>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Peoples thoughts </a:t>
            </a:r>
            <a:endParaRPr b="0" lang="en-US" sz="4400" spc="-1" strike="noStrike">
              <a:solidFill>
                <a:srgbClr val="dfd293"/>
              </a:solidFill>
              <a:latin typeface="Comic Sans MS"/>
            </a:endParaRPr>
          </a:p>
        </p:txBody>
      </p:sp>
      <p:sp>
        <p:nvSpPr>
          <p:cNvPr id="58"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mmon people supposed that it was important to know about astronomy in order to understand the causes of disease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hen a person became ill, people went to the church to confess their sins because of the considerations that doctors made.  </a:t>
            </a:r>
            <a:endParaRPr b="0" lang="en-US" sz="1800" spc="-1" strike="noStrike">
              <a:solidFill>
                <a:srgbClr val="ffffff"/>
              </a:solidFill>
              <a:latin typeface="Comic Sans MS"/>
            </a:endParaRPr>
          </a:p>
        </p:txBody>
      </p:sp>
    </p:spTree>
  </p:cSld>
  <p:transition spd="med">
    <p:zoom dir="out"/>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80000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omic Sans MS"/>
              </a:rPr>
              <a:t>Patients treatments </a:t>
            </a:r>
            <a:endParaRPr b="0" lang="en-US" sz="4400" spc="-1" strike="noStrike">
              <a:solidFill>
                <a:srgbClr val="dfd293"/>
              </a:solidFill>
              <a:latin typeface="Comic Sans MS"/>
            </a:endParaRPr>
          </a:p>
        </p:txBody>
      </p:sp>
      <p:sp>
        <p:nvSpPr>
          <p:cNvPr id="60" name="PlaceHolder 2"/>
          <p:cNvSpPr>
            <a:spLocks noGrp="1"/>
          </p:cNvSpPr>
          <p:nvPr>
            <p:ph/>
          </p:nvPr>
        </p:nvSpPr>
        <p:spPr>
          <a:xfrm>
            <a:off x="457200" y="1600200"/>
            <a:ext cx="8229600" cy="4525920"/>
          </a:xfrm>
          <a:prstGeom prst="rect">
            <a:avLst/>
          </a:prstGeom>
          <a:solidFill>
            <a:srgbClr val="800000">
              <a:alpha val="80000"/>
            </a:srgbClr>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o the patients, doctors measured the patients pulse and often the urine: If the urine was black and cloudy it was a sign of death. </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f a person had fever, medieval doctors  took a knife and took out some of the blood because of the idea that if a person had the face or another part of the body red, it was because of the to much blood in the body. </a:t>
            </a:r>
            <a:endParaRPr b="0" lang="en-US" sz="1800" spc="-1" strike="noStrike">
              <a:solidFill>
                <a:srgbClr val="ffffff"/>
              </a:solidFill>
              <a:latin typeface="Comic Sans MS"/>
            </a:endParaRPr>
          </a:p>
        </p:txBody>
      </p:sp>
    </p:spTree>
  </p:cSld>
  <p:transition spd="med">
    <p:zoom dir="out"/>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09:22:29Z</dcterms:created>
  <dc:creator>cwright</dc:creator>
  <dc:description/>
  <dc:language>en-US</dc:language>
  <cp:lastModifiedBy>cwright</cp:lastModifiedBy>
  <dcterms:modified xsi:type="dcterms:W3CDTF">2007-03-19T12:34:51Z</dcterms:modified>
  <cp:revision>7</cp:revision>
  <dc:subject/>
  <dc:title>7L Medieval Doctors presentation</dc:title>
</cp:coreProperties>
</file>